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png" ContentType="image/png"/>
  <Override PartName="/ppt/media/image11.gif" ContentType="image/gif"/>
  <Override PartName="/ppt/media/image9.png" ContentType="image/png"/>
  <Override PartName="/ppt/media/image6.gif" ContentType="image/gif"/>
  <Override PartName="/ppt/media/image7.png" ContentType="image/png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FCC0-27E0-4D6F-BCF9-9349EC090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C7D4-F2D9-42BA-9398-AC99D73C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C7AB-8168-4D0A-8EDC-089EFD60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2C79-4672-49A7-AE86-516AAE1DA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DF9E-56F3-4F7D-8D43-FEABE286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8B69-0DD0-4203-8C9D-090651EF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62AA-26F7-41C9-A667-9211EBE4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FEB9-06BD-4841-94F0-ACD4FF6B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BE8C-C307-424E-BB12-BBD80434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8A17-9BB8-4745-8E4F-27B1F645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53F7-8CAA-41D3-9529-5610BED8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CAF1-5A08-4975-895E-16BD4400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8346-7E35-4ACC-AB34-B422231B6E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Experimental Tropical Cyclone  Surface Wind Speed Probabilities</a:t>
            </a:r>
            <a:br>
              <a:rPr sz="40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 JHT Project Update</a:t>
            </a:r>
            <a:endParaRPr b="0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14600" y="1562040"/>
            <a:ext cx="4114800" cy="3070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4480" y="4648320"/>
            <a:ext cx="8915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chard Knabb, James Gross, Edward Rappaport, and Michelle Mainel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NOAA/NWS/NCEP/TPC/NH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rk DeMaria (NOAA/NESDIS/ORA) and John Knaff (CSU/CIR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e500"/>
                </a:solidFill>
                <a:latin typeface="Arial"/>
              </a:rPr>
              <a:t>Interdepartmental Hurricane Con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e500"/>
                </a:solidFill>
                <a:latin typeface="Arial"/>
              </a:rPr>
              <a:t>9 March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382680"/>
            <a:ext cx="9140760" cy="6541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5400" y="71280"/>
            <a:ext cx="266688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34 kt Cumul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33760" y="71280"/>
            <a:ext cx="38862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0-120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62760" y="73080"/>
            <a:ext cx="29718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00 UTC Tue 14 S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2695680"/>
            <a:ext cx="152280" cy="15228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24480" y="838080"/>
            <a:ext cx="106704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73% or</a:t>
            </a:r>
            <a:br>
              <a:rPr sz="2400"/>
            </a:b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3 in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085920" y="1514520"/>
            <a:ext cx="3305160" cy="1247760"/>
          </a:xfrm>
          <a:prstGeom prst="line">
            <a:avLst/>
          </a:prstGeom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B84A-7EA7-4994-A00A-0771241E8B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382680"/>
            <a:ext cx="9140760" cy="6541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5400" y="71280"/>
            <a:ext cx="266688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64 kt Cumul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33760" y="71280"/>
            <a:ext cx="38862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0-120 h   12 hour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62760" y="73080"/>
            <a:ext cx="29718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00 UTC Tue 14 S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B155-002B-4750-8BC4-ECABDF1013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382680"/>
            <a:ext cx="9140760" cy="6541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5400" y="71280"/>
            <a:ext cx="266688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64 kt Cumul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33760" y="71280"/>
            <a:ext cx="38862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0-120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62760" y="73080"/>
            <a:ext cx="29718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00 UTC Tue 14 S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22640" y="2708280"/>
            <a:ext cx="1523880" cy="331920"/>
          </a:xfrm>
          <a:custGeom>
            <a:avLst/>
            <a:gdLst/>
            <a:ahLst/>
            <a:rect l="l" t="t" r="r" b="b"/>
            <a:pathLst>
              <a:path w="960" h="209">
                <a:moveTo>
                  <a:pt x="0" y="129"/>
                </a:moveTo>
                <a:cubicBezTo>
                  <a:pt x="11" y="135"/>
                  <a:pt x="43" y="155"/>
                  <a:pt x="68" y="163"/>
                </a:cubicBezTo>
                <a:cubicBezTo>
                  <a:pt x="93" y="171"/>
                  <a:pt x="126" y="180"/>
                  <a:pt x="153" y="180"/>
                </a:cubicBezTo>
                <a:cubicBezTo>
                  <a:pt x="180" y="180"/>
                  <a:pt x="202" y="160"/>
                  <a:pt x="232" y="163"/>
                </a:cubicBezTo>
                <a:cubicBezTo>
                  <a:pt x="262" y="166"/>
                  <a:pt x="326" y="209"/>
                  <a:pt x="334" y="197"/>
                </a:cubicBezTo>
                <a:cubicBezTo>
                  <a:pt x="342" y="185"/>
                  <a:pt x="308" y="118"/>
                  <a:pt x="283" y="90"/>
                </a:cubicBezTo>
                <a:cubicBezTo>
                  <a:pt x="258" y="62"/>
                  <a:pt x="153" y="40"/>
                  <a:pt x="181" y="28"/>
                </a:cubicBezTo>
                <a:cubicBezTo>
                  <a:pt x="209" y="16"/>
                  <a:pt x="388" y="20"/>
                  <a:pt x="450" y="19"/>
                </a:cubicBezTo>
                <a:cubicBezTo>
                  <a:pt x="512" y="18"/>
                  <a:pt x="518" y="21"/>
                  <a:pt x="555" y="19"/>
                </a:cubicBezTo>
                <a:cubicBezTo>
                  <a:pt x="592" y="17"/>
                  <a:pt x="635" y="0"/>
                  <a:pt x="672" y="5"/>
                </a:cubicBezTo>
                <a:cubicBezTo>
                  <a:pt x="709" y="10"/>
                  <a:pt x="754" y="31"/>
                  <a:pt x="780" y="50"/>
                </a:cubicBezTo>
                <a:cubicBezTo>
                  <a:pt x="806" y="69"/>
                  <a:pt x="812" y="113"/>
                  <a:pt x="831" y="118"/>
                </a:cubicBezTo>
                <a:cubicBezTo>
                  <a:pt x="850" y="123"/>
                  <a:pt x="872" y="88"/>
                  <a:pt x="893" y="78"/>
                </a:cubicBezTo>
                <a:cubicBezTo>
                  <a:pt x="914" y="68"/>
                  <a:pt x="946" y="61"/>
                  <a:pt x="960" y="56"/>
                </a:cubicBezTo>
              </a:path>
            </a:pathLst>
          </a:custGeom>
          <a:noFill/>
          <a:ln w="50760">
            <a:solidFill>
              <a:srgbClr val="ff99cc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67120" y="2649600"/>
            <a:ext cx="152280" cy="15228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1630440"/>
            <a:ext cx="1143000" cy="121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24%</a:t>
            </a:r>
            <a:br>
              <a:rPr sz="2400"/>
            </a:b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or</a:t>
            </a:r>
            <a:br>
              <a:rPr sz="2400"/>
            </a:b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1 in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2316240"/>
            <a:ext cx="1204920" cy="409320"/>
          </a:xfrm>
          <a:prstGeom prst="line">
            <a:avLst/>
          </a:prstGeom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52880" y="2514600"/>
            <a:ext cx="3962520" cy="78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Hurricane Watch Issu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(120 h probability range 5 to 30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0CC0-58DD-4D77-9D9E-A44B0B3129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73080"/>
            <a:ext cx="9144000" cy="60339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5400" y="71280"/>
            <a:ext cx="266688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64 kt Cumul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33760" y="71280"/>
            <a:ext cx="38862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0-120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62760" y="73080"/>
            <a:ext cx="29718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18 UTC Thu 12 A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20880" y="6095880"/>
            <a:ext cx="556272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Hurricane Charley (200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73392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nsity 90 k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64  25 20 10 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354C-035D-429D-8F03-CEF562E6B2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Experimental Gridded</a:t>
            </a:r>
            <a:br>
              <a:rPr sz="4000"/>
            </a:b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Products for WFOs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447920"/>
            <a:ext cx="86868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imental wind speed probability grids to be available in AWIPS in September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WIPS grid domain 231 covering entire Northern Hemisp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be disseminated no earlier than ~15 minutes after TCM issuance deadline, since all TC advisories must be out to be included in single gridded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al products for special advisories (infrequ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mulative probabilities, 0-120 hours at 12-h interv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arate fields for probabilities of &gt;= 34, 50, and 64 k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.5 degree lat/lon grid spac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provide input to experimental WFO text and graphical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tually will also go straight into NDF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8C13-BA83-405B-85B2-3A9265512E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Experimental TPC Website Probability Graphics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600200"/>
            <a:ext cx="8229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imental, animated graphical wind speed probabilities planned on TPC website for 2005 sea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lantic and eastern Pacific basins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nt under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rate 0-120 h animations of cumulative probabilities for each TC, for each wind speed threshold (34, 50, and 64 k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120 h still frame for each full basin, for each speed thresh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operational implementation in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ential replacement for existing strike probability graph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00B7-5FB6-454C-9916-01C7C31B51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Experimental TPC Website Probability Graphics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81080" y="1249200"/>
            <a:ext cx="7010640" cy="5608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-42840" y="2971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4 kt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60A6-C0BE-474F-9E4B-0C03345831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Experimental TPC Website Probability Graphics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42840" y="2971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0 kt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82880" y="1251000"/>
            <a:ext cx="6993000" cy="559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515D-C014-4976-9979-E49CFCB156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Experimental TPC Website Probability Graphics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42840" y="2971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4 kt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82880" y="1251000"/>
            <a:ext cx="6993000" cy="559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7F8C-761C-46D4-980E-FF3E101D61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Experimental Wind Speed Probability Text Products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1600200"/>
            <a:ext cx="8229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both individual period (12-hourly) and cumulative probabilities in the same single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provide probabilities for three wind speed thresholds (34, 50, 64 kt) in that same single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separate products/headers requ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basins (Atlantic, eastern Pacific, central Pacifi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 TCs/bins in each bas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imental generation in 2005, possibly operational in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ential replacement for existing strike probability text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ACD0-FBE7-4B31-9AC5-8F16418DEE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33440" y="1295280"/>
            <a:ext cx="6853320" cy="54835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Current TPC/NHC Products Used to Convey Uncertainty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2057400"/>
            <a:ext cx="2057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ike Probability Graphic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39920" y="19080"/>
            <a:ext cx="6856560" cy="9358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57560" y="0"/>
            <a:ext cx="6842160" cy="6858000"/>
          </a:xfrm>
          <a:prstGeom prst="rect">
            <a:avLst/>
          </a:prstGeom>
          <a:noFill/>
          <a:ln w="38160">
            <a:solidFill>
              <a:srgbClr val="f0e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18288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rimental Wind Speed Probability Text Produ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top por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4015-3872-4803-8353-79B55F0F51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39920" y="19080"/>
            <a:ext cx="6856560" cy="9358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257560" y="0"/>
            <a:ext cx="6842160" cy="6858000"/>
          </a:xfrm>
          <a:prstGeom prst="rect">
            <a:avLst/>
          </a:prstGeom>
          <a:noFill/>
          <a:ln w="38160">
            <a:solidFill>
              <a:srgbClr val="f0e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228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WSP would replace the SPF, and be issued with each individual TC advisory pack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05080" y="47520"/>
            <a:ext cx="4552920" cy="990720"/>
          </a:xfrm>
          <a:prstGeom prst="rect">
            <a:avLst/>
          </a:prstGeom>
          <a:solidFill>
            <a:srgbClr val="f0e500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CF38-7097-40A2-81FB-F454E23BB8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39920" y="19080"/>
            <a:ext cx="6856560" cy="9358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257560" y="0"/>
            <a:ext cx="6842160" cy="6858000"/>
          </a:xfrm>
          <a:prstGeom prst="rect">
            <a:avLst/>
          </a:prstGeom>
          <a:noFill/>
          <a:ln w="38160">
            <a:solidFill>
              <a:srgbClr val="f0e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066680"/>
            <a:ext cx="228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visory position and intensity provided at top of produ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1066680"/>
            <a:ext cx="5867280" cy="990720"/>
          </a:xfrm>
          <a:prstGeom prst="rect">
            <a:avLst/>
          </a:prstGeom>
          <a:solidFill>
            <a:srgbClr val="f0e500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329F-9EFF-41DE-97F9-F3B56A8473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39920" y="19080"/>
            <a:ext cx="6856560" cy="9358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57560" y="0"/>
            <a:ext cx="6842160" cy="6858000"/>
          </a:xfrm>
          <a:prstGeom prst="rect">
            <a:avLst/>
          </a:prstGeom>
          <a:noFill/>
          <a:ln w="38160">
            <a:solidFill>
              <a:srgbClr val="f0e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133720"/>
            <a:ext cx="2286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three wind speed thresholds included in this single produ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Thresholds in all units for WMO RA-IV are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2133720"/>
            <a:ext cx="5867280" cy="990360"/>
          </a:xfrm>
          <a:prstGeom prst="rect">
            <a:avLst/>
          </a:prstGeom>
          <a:solidFill>
            <a:srgbClr val="f0e500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7635-144C-429B-80BF-890D3CA0ED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39920" y="19080"/>
            <a:ext cx="6856560" cy="9358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257560" y="0"/>
            <a:ext cx="6842160" cy="6858000"/>
          </a:xfrm>
          <a:prstGeom prst="rect">
            <a:avLst/>
          </a:prstGeom>
          <a:noFill/>
          <a:ln w="38160">
            <a:solidFill>
              <a:srgbClr val="f0e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004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umn headers defined explicitly in time (UT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3162240"/>
            <a:ext cx="6781680" cy="990720"/>
          </a:xfrm>
          <a:prstGeom prst="rect">
            <a:avLst/>
          </a:prstGeom>
          <a:solidFill>
            <a:srgbClr val="f0e500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1A41-9522-41F6-87A8-0EB7AC6E364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39920" y="19080"/>
            <a:ext cx="6856560" cy="9358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257560" y="0"/>
            <a:ext cx="6842160" cy="6858000"/>
          </a:xfrm>
          <a:prstGeom prst="rect">
            <a:avLst/>
          </a:prstGeom>
          <a:noFill/>
          <a:ln w="38160">
            <a:solidFill>
              <a:srgbClr val="f0e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657600"/>
            <a:ext cx="228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tput intervals are 12 hourly to 48 hours, then 24 hourly to 120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4191120"/>
            <a:ext cx="6781680" cy="304560"/>
          </a:xfrm>
          <a:prstGeom prst="rect">
            <a:avLst/>
          </a:prstGeom>
          <a:solidFill>
            <a:srgbClr val="f0e500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5D11-7FA7-44DA-A4EF-367E957BCC6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239920" y="19080"/>
            <a:ext cx="6856560" cy="93582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257560" y="0"/>
            <a:ext cx="6842160" cy="6858000"/>
          </a:xfrm>
          <a:prstGeom prst="rect">
            <a:avLst/>
          </a:prstGeom>
          <a:noFill/>
          <a:ln w="38160">
            <a:solidFill>
              <a:srgbClr val="f0e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5720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ations listed by name in geographic 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4572000"/>
            <a:ext cx="1447920" cy="2247840"/>
          </a:xfrm>
          <a:prstGeom prst="rect">
            <a:avLst/>
          </a:prstGeom>
          <a:solidFill>
            <a:srgbClr val="f0e500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E8E3-980E-4DC6-99D4-B521543E120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39920" y="19080"/>
            <a:ext cx="6856560" cy="9358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257560" y="0"/>
            <a:ext cx="6842160" cy="6858000"/>
          </a:xfrm>
          <a:prstGeom prst="rect">
            <a:avLst/>
          </a:prstGeom>
          <a:noFill/>
          <a:ln w="38160">
            <a:solidFill>
              <a:srgbClr val="f0e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572000"/>
            <a:ext cx="228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ch row of values corresponds to one wind speed threshold at one lo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33920" y="4572000"/>
            <a:ext cx="419040" cy="2247840"/>
          </a:xfrm>
          <a:prstGeom prst="rect">
            <a:avLst/>
          </a:prstGeom>
          <a:solidFill>
            <a:srgbClr val="f0e500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B651-C519-4DF9-AFE2-2E02180930D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239920" y="19080"/>
            <a:ext cx="6856560" cy="93582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257560" y="0"/>
            <a:ext cx="6842160" cy="6858000"/>
          </a:xfrm>
          <a:prstGeom prst="rect">
            <a:avLst/>
          </a:prstGeom>
          <a:noFill/>
          <a:ln w="38160">
            <a:solidFill>
              <a:srgbClr val="f0e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05440" y="4933800"/>
            <a:ext cx="4876560" cy="1905120"/>
          </a:xfrm>
          <a:prstGeom prst="rect">
            <a:avLst/>
          </a:prstGeom>
          <a:solidFill>
            <a:srgbClr val="f0e500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81080"/>
            <a:ext cx="220968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interval and cumulative (in parentheses) probability values in perc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” denotes less than 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cribed in legend at end of product (not show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3D4A-664A-4F4E-8A9C-44CF261DE6C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39920" y="19080"/>
            <a:ext cx="6856560" cy="9358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257560" y="0"/>
            <a:ext cx="6842160" cy="6858000"/>
          </a:xfrm>
          <a:prstGeom prst="rect">
            <a:avLst/>
          </a:prstGeom>
          <a:noFill/>
          <a:ln w="38160">
            <a:solidFill>
              <a:srgbClr val="f0e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515440" y="4933800"/>
            <a:ext cx="399960" cy="1905120"/>
          </a:xfrm>
          <a:prstGeom prst="rect">
            <a:avLst/>
          </a:prstGeom>
          <a:solidFill>
            <a:srgbClr val="f0e500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360" y="4267080"/>
            <a:ext cx="2210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for a particular location and speed only shown when 120 hour cumulative probability is at least 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9885-C79C-440E-AA60-B7FE770ACAF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66880" y="1219320"/>
            <a:ext cx="5943600" cy="5638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666880" y="1225440"/>
            <a:ext cx="5938920" cy="5632560"/>
          </a:xfrm>
          <a:prstGeom prst="rect">
            <a:avLst/>
          </a:prstGeom>
          <a:noFill/>
          <a:ln w="38160">
            <a:solidFill>
              <a:srgbClr val="f0e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Current TPC/NHC Products Used to Convey Uncertainty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2057400"/>
            <a:ext cx="2057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ike Probability Text Product (SPF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3650-92FF-46EF-AC7D-5307E4E730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300400" y="17640"/>
            <a:ext cx="6783120" cy="9496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286000" y="0"/>
            <a:ext cx="6813720" cy="6858000"/>
          </a:xfrm>
          <a:prstGeom prst="rect">
            <a:avLst/>
          </a:prstGeom>
          <a:noFill/>
          <a:ln w="38160">
            <a:solidFill>
              <a:srgbClr val="f0e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52600" y="3095640"/>
            <a:ext cx="6667560" cy="723960"/>
          </a:xfrm>
          <a:prstGeom prst="rect">
            <a:avLst/>
          </a:prstGeom>
          <a:solidFill>
            <a:srgbClr val="f0e500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048120"/>
            <a:ext cx="22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arate row of probabilities for each wind speed threshold at each lo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52280"/>
            <a:ext cx="228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rther down in same product, many locations show higher probabilities and for all three speed thresho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8C13-BA9D-44C8-ABB3-388CFF41F37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Challenges and Ongoing Work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t training, outreach, and feedback requ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ping different types of users interpret the output and assess their ri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all probabilities of an extreme event are signific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of cumulative vs. individual period probab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ceived appearance of “growing storm” in graphical 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ential use in WFO text and graphical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ing efficiency of MCP code and graphical post-proces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 guidance for watch/warning breakpoi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CP probabilities for TCs are zero in many locations that could experience 34 kt winds or greater due to other weather systems…how to eventually merge with other probabilistic outpu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694F-49F2-4568-A8F4-18840014451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Current TPC/NHC Products Used to Convey Uncertainty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2057400"/>
            <a:ext cx="2057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tch/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rning Graphic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670068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52280" y="144756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for improved means of conveying forecast uncertainty to various user commun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products do not account for combined uncertainty in track, intensity, and s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strike probabilities only extend three days into forecast perio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hances of wind speeds exceeding particular thresholds (e.g., tropical storm force, hurricane force) have more direct meaning and imp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ential to provide users with information that enhances their ability to make preparedness decisions specific to their own sit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Why Consider Wind Speed Probabilities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F701-AB63-4856-A608-14520FBC74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52280" y="1066320"/>
            <a:ext cx="88394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DeMaria, Knaff, et al. JHT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of Monte Carlo Probability (MCP)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large set of plausible tracks and intensities (realizations), centered around current official forecast, determined by random sampling of historical track and intensity errors in official foreca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matology and persistence (CLIPER) model used to create perturbations in wind radii along each track re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matology based on past operational radii estim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dii adjustment (maximum to average extent) expected to slightly reduce probabilities, esp. in first 1-2 days of forecast, and be more representative of probability of actual wind spee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abilities computed by counting the number of times each 2D grid point falls within a particular wind speed radius relative to the number of realiz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Computing Wind Speed Probabilities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96FC-0CBB-4F98-9C35-49C0CC1987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Computing Wind Speed Probabilities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d each forecast cycle for all active tropical cyclones in the Atlantic, eastern/central Pacific, and western Pacific bas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d on 2-D grids with 0.5-degree lat/lon spac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probabilities of the surface wind speed equal to or exceeding 34, 50, and 64 kt over specified time intervals (0-120 hours in 12-hour interva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ividual interval or cumulative probab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idded, graphical, and text products can be produc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4400640"/>
            <a:ext cx="9144000" cy="184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6B43-DD13-45AD-A6BB-4846DB352F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9600" y="19080"/>
            <a:ext cx="8524800" cy="6819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934320" y="1523880"/>
            <a:ext cx="1523880" cy="1855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urricane Watch issu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52 h before landfall 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 am CDT Thu Sep 1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382680"/>
            <a:ext cx="9140760" cy="6541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5400" y="71280"/>
            <a:ext cx="266688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34 kt Cumul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33760" y="71280"/>
            <a:ext cx="38862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0-120 h   12 hour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62760" y="73080"/>
            <a:ext cx="29718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00 UTC Tue 14 S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91320" y="838080"/>
            <a:ext cx="3352680" cy="106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idded probabilities viewed in NAWIPS at TP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AD29-699C-4AD2-9C9F-9D417F70CE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18:49:16Z</dcterms:created>
  <dc:creator>Max Mayfield</dc:creator>
  <dc:description/>
  <dc:language>en-US</dc:language>
  <cp:lastModifiedBy>Rick Knabb</cp:lastModifiedBy>
  <dcterms:modified xsi:type="dcterms:W3CDTF">2005-03-09T14:00:06Z</dcterms:modified>
  <cp:revision>185</cp:revision>
  <dc:subject/>
  <dc:title>Slide 1</dc:title>
</cp:coreProperties>
</file>