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png" ContentType="image/png"/>
  <Override PartName="/ppt/media/image11.gif" ContentType="image/gif"/>
  <Override PartName="/ppt/media/image9.png" ContentType="image/png"/>
  <Override PartName="/ppt/media/image6.gif" ContentType="image/gif"/>
  <Override PartName="/ppt/media/image7.png" ContentType="image/png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4AC-F44F-429C-87BE-02DB4D10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59C-4C02-4021-AB12-F6B410B8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0E8-773F-425F-A34F-32955E06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A08-9981-4DC5-806B-EA7252C4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3D2-4B54-4D27-BF30-4EC32DD2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679-10E3-4373-B8DD-B286E5C5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401-4757-4993-8DFF-9BEF2237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3B4-6B07-46B8-BA02-5A30E1FF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D0C-4A51-423B-865C-8830820F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2C1-C301-4D09-BBFF-CE2662E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21F-43A1-4A69-9C09-C5488F4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9A8-0D61-45FD-B584-77D870B1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F495-F5EF-49D8-ACB7-CCF3E90908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Tropical Cyclone  Surface Wind Speed Probabilitie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 JHT Project Update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562040"/>
            <a:ext cx="4114800" cy="307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480" y="4648320"/>
            <a:ext cx="8915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chard Knabb, James Gross, Edward Rappaport, and Michelle Mainel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NOAA/NWS/NCEP/TPC/NH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 DeMaria (NOAA/NESDIS/ORA) and John Knaff (CSU/CI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e500"/>
                </a:solidFill>
                <a:latin typeface="Arial"/>
              </a:rPr>
              <a:t>Interdepartmental Hurricane 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e500"/>
                </a:solidFill>
                <a:latin typeface="Arial"/>
              </a:rPr>
              <a:t>9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0760" cy="6541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5400" y="71280"/>
            <a:ext cx="26668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34 kt 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33760" y="71280"/>
            <a:ext cx="38862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-12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62760" y="73080"/>
            <a:ext cx="2971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0 UTC Tue 14 S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69568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838080"/>
            <a:ext cx="106704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73% or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3 in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085920" y="1514520"/>
            <a:ext cx="3305160" cy="124776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C71-58B7-4FD1-BD91-E870922D49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0760" cy="6541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5400" y="71280"/>
            <a:ext cx="26668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64 kt 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33760" y="71280"/>
            <a:ext cx="38862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-120 h   12 hou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62760" y="73080"/>
            <a:ext cx="2971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0 UTC Tue 14 S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327-BC39-4451-895B-F79C358CE6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0760" cy="6541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5400" y="71280"/>
            <a:ext cx="26668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64 kt 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33760" y="71280"/>
            <a:ext cx="38862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-12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62760" y="73080"/>
            <a:ext cx="2971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0 UTC Tue 14 S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22640" y="2708280"/>
            <a:ext cx="1523880" cy="331920"/>
          </a:xfrm>
          <a:custGeom>
            <a:avLst/>
            <a:gdLst/>
            <a:ahLst/>
            <a:rect l="l" t="t" r="r" b="b"/>
            <a:pathLst>
              <a:path w="960" h="209">
                <a:moveTo>
                  <a:pt x="0" y="129"/>
                </a:moveTo>
                <a:cubicBezTo>
                  <a:pt x="11" y="135"/>
                  <a:pt x="43" y="155"/>
                  <a:pt x="68" y="163"/>
                </a:cubicBezTo>
                <a:cubicBezTo>
                  <a:pt x="93" y="171"/>
                  <a:pt x="126" y="180"/>
                  <a:pt x="153" y="180"/>
                </a:cubicBezTo>
                <a:cubicBezTo>
                  <a:pt x="180" y="180"/>
                  <a:pt x="202" y="160"/>
                  <a:pt x="232" y="163"/>
                </a:cubicBezTo>
                <a:cubicBezTo>
                  <a:pt x="262" y="166"/>
                  <a:pt x="326" y="209"/>
                  <a:pt x="334" y="197"/>
                </a:cubicBezTo>
                <a:cubicBezTo>
                  <a:pt x="342" y="185"/>
                  <a:pt x="308" y="118"/>
                  <a:pt x="283" y="90"/>
                </a:cubicBezTo>
                <a:cubicBezTo>
                  <a:pt x="258" y="62"/>
                  <a:pt x="153" y="40"/>
                  <a:pt x="181" y="28"/>
                </a:cubicBezTo>
                <a:cubicBezTo>
                  <a:pt x="209" y="16"/>
                  <a:pt x="388" y="20"/>
                  <a:pt x="450" y="19"/>
                </a:cubicBezTo>
                <a:cubicBezTo>
                  <a:pt x="512" y="18"/>
                  <a:pt x="518" y="21"/>
                  <a:pt x="555" y="19"/>
                </a:cubicBezTo>
                <a:cubicBezTo>
                  <a:pt x="592" y="17"/>
                  <a:pt x="635" y="0"/>
                  <a:pt x="672" y="5"/>
                </a:cubicBezTo>
                <a:cubicBezTo>
                  <a:pt x="709" y="10"/>
                  <a:pt x="754" y="31"/>
                  <a:pt x="780" y="50"/>
                </a:cubicBezTo>
                <a:cubicBezTo>
                  <a:pt x="806" y="69"/>
                  <a:pt x="812" y="113"/>
                  <a:pt x="831" y="118"/>
                </a:cubicBezTo>
                <a:cubicBezTo>
                  <a:pt x="850" y="123"/>
                  <a:pt x="872" y="88"/>
                  <a:pt x="893" y="78"/>
                </a:cubicBezTo>
                <a:cubicBezTo>
                  <a:pt x="914" y="68"/>
                  <a:pt x="946" y="61"/>
                  <a:pt x="960" y="56"/>
                </a:cubicBezTo>
              </a:path>
            </a:pathLst>
          </a:custGeom>
          <a:noFill/>
          <a:ln w="50760">
            <a:solidFill>
              <a:srgbClr val="ff99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67120" y="264960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630440"/>
            <a:ext cx="1143000" cy="12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24%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or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1 in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316240"/>
            <a:ext cx="1204920" cy="40932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2514600"/>
            <a:ext cx="396252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Hurricane Watch Issu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(120 h probability range 5 to 3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92B-100A-437A-A40B-71F3F3F702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033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5400" y="71280"/>
            <a:ext cx="26668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64 kt 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33760" y="71280"/>
            <a:ext cx="38862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-12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62760" y="73080"/>
            <a:ext cx="2971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18 UTC Thu 12 A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0880" y="6095880"/>
            <a:ext cx="55627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Hurricane Charley (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 90 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64  25 20 10 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BAD-9145-4E84-BA1B-077818362F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Gridded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Products for WFO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447920"/>
            <a:ext cx="8686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al wind speed probability grids to be available in AWIPS in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IPS grid domain 231 covering entire Nor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disseminated no earlier than ~15 minutes after TCM issuance deadline, since all TC advisories must be out to be included in single gridde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products for special advisories (infrequ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mulative probabilities, 0-120 hours at 12-h interv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fields for probabilities of &gt;= 34, 50, and 64 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 degree lat/lon grid spa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provide input to experimental WFO text and graphica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 will also go straight into ND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881-A7CD-4185-8801-10AA07DD0B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TPC Website Probability Graphic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600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al, animated graphical wind speed probabilities planned on TPC website for 2005 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lantic and eastern Pacific basins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 under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 0-120 h animations of cumulative probabilities for each TC, for each wind speed threshold (34, 50, and 64 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120 h still frame for each full basin, for each speed thres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operational implementation in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replacement for existing strike probability graph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1EE-64E6-4F1B-BC43-0BD845D1B0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TPC Website Probability Graphic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1249200"/>
            <a:ext cx="7010640" cy="560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4284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4 k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5FA-61F1-4225-B6C2-337C4213AC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TPC Website Probability Graphic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284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0 k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2880" y="1251000"/>
            <a:ext cx="6993000" cy="559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996-24A8-4527-A30F-AB5467BC45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TPC Website Probability Graphic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4284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4 k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2880" y="1251000"/>
            <a:ext cx="6993000" cy="559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F56-423B-438B-BDF5-7846858032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Wind Speed Probability Text Product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00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both individual period (12-hourly) and cumulative probabilities in the same single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provide probabilities for three wind speed thresholds (34, 50, 64 kt) in that same single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separate products/header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basins (Atlantic, eastern Pacific, central Pacif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TCs/bins in each bas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al generation in 2005, possibly operational in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replacement for existing strike probability text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F8D-B7BE-4F18-8F05-6A822FA41F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33440" y="1295280"/>
            <a:ext cx="6853320" cy="5483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urrent TPC/NHC Products Used to Convey Uncertainty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057400"/>
            <a:ext cx="2057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ike Probability Graphic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1828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al Wind Speed Probability Text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op por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AAB-B90A-46B9-B58C-54C6F7218C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SP would replace the SPF, and be issued with each individual TC advisory pac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05080" y="47520"/>
            <a:ext cx="4552920" cy="99072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0A9-5DEF-4FD0-9437-5EF7820B07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06668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isory position and intensity provided at top of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1066680"/>
            <a:ext cx="5867280" cy="99072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25B-A1DA-47DA-AB66-F917601890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33720"/>
            <a:ext cx="228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wind speed thresholds included in this single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hresholds in all units for WMO RA-IV are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133720"/>
            <a:ext cx="5867280" cy="99036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F03-5471-4596-A7A1-086425E07A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004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umn headers defined explicitly in time (U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62240"/>
            <a:ext cx="6781680" cy="99072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88F-3724-4F7F-9C1F-819B205217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65760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intervals are 12 hourly to 48 hours, then 24 hourly to 120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4191120"/>
            <a:ext cx="6781680" cy="30456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062-7D43-442D-8C2A-5D62F0FAED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5720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s listed by name in geographic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4572000"/>
            <a:ext cx="1447920" cy="224784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008-4F77-466B-8FCF-BE7A783849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row of values corresponds to one wind speed threshold at on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572000"/>
            <a:ext cx="419040" cy="224784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A87-8EE2-46BD-804E-98303DD321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05440" y="4933800"/>
            <a:ext cx="4876560" cy="190512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81080"/>
            <a:ext cx="220968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interval and cumulative (in parentheses) probability values in perc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” denotes less than 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bed in legend at end of product (not show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985-8EF7-455D-AFBC-75E5FD3AB5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515440" y="4933800"/>
            <a:ext cx="399960" cy="190512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360" y="4267080"/>
            <a:ext cx="2210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for a particular location and speed only shown when 120 hour cumulative probability is at least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74F-0F6C-4BF5-8790-7EAF1E8BAD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1225440"/>
            <a:ext cx="5938920" cy="563256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urrent TPC/NHC Products Used to Convey Uncertainty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057400"/>
            <a:ext cx="2057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ike Probability Text Product (SPF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7A0-A1A7-45DC-A4F4-06346A9A60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300400" y="17640"/>
            <a:ext cx="6783120" cy="9496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0" y="0"/>
            <a:ext cx="681372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52600" y="3095640"/>
            <a:ext cx="6667560" cy="72396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048120"/>
            <a:ext cx="22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e row of probabilities for each wind speed threshold at each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228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rther down in same product, many locations show higher probabilities and for all three speed thresh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8A6-A6C1-4819-B035-15B352EECE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hallenges and Ongoing Work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 training, outreach, and feedback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ing different types of users interpret the output and assess their r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probabilities of an extreme event are signific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cumulative vs. individual period prob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ived appearance of “growing storm” in graphical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use in WFO text and graphica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ing efficiency of MCP code and graphical post-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 guidance for watch/warning breakpoi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P probabilities for TCs are zero in many locations that could experience 34 kt winds or greater due to other weather systems…how to eventually merge with other probabilistic outpu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96D-2F5C-478A-9749-4AECBCA931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urrent TPC/NHC Products Used to Convey Uncertainty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057400"/>
            <a:ext cx="2057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tch/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rning Graphic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67006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or improved means of conveying forecast uncertainty to various user comm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products do not account for combined uncertainty in track, intensity, and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strike probabilities only extend three days into forecast peri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nces of wind speeds exceeding particular thresholds (e.g., tropical storm force, hurricane force) have more direct meaning and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to provide users with information that enhances their ability to make preparedness decisions specific to their own sit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Why Consider Wind Speed Probabilitie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B2A-D654-41BB-A9D3-178C9C78E3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DeMaria, Knaff, et al. JHT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Monte Carlo Probability (MCP)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large set of plausible tracks and intensities (realizations), centered around current official forecast, determined by random sampling of historical track and intensity errors in official foreca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matology and persistence (CLIPER) model used to create perturbations in wind radii along each track re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matology based on past operational radii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i adjustment (maximum to average extent) expected to slightly reduce probabilities, esp. in first 1-2 days of forecast, and be more representative of probability of actual wind sp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ies computed by counting the number of times each 2D grid point falls within a particular wind speed radius relative to the number of real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omputing Wind Speed Probabiliti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494-189D-4AD1-8ECF-F08488B0B4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omputing Wind Speed Probabiliti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d each forecast cycle for all active tropical cyclones in the Atlantic, eastern/central Pacific, and western Pacific bas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d on 2-D grids with 0.5-degree lat/lon spa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probabilities of the surface wind speed equal to or exceeding 34, 50, and 64 kt over specified time intervals (0-120 hours in 12-hour interva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 interval or cumulative prob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idded, graphical, and text products can be p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400640"/>
            <a:ext cx="914400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C0B-D878-47D6-8429-EA89127FD1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9600" y="19080"/>
            <a:ext cx="8524800" cy="6819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34320" y="1523880"/>
            <a:ext cx="1523880" cy="1855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urricane Watch issu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2 h before landfall 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am CDT Thu Sep 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0760" cy="6541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5400" y="71280"/>
            <a:ext cx="26668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34 kt 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33760" y="71280"/>
            <a:ext cx="38862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-120 h   12 hou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62760" y="73080"/>
            <a:ext cx="2971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0 UTC Tue 14 S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838080"/>
            <a:ext cx="33526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idded probabilities viewed in NAWIPS at T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21B-A110-41AB-B761-7629B59C2B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8:49:16Z</dcterms:created>
  <dc:creator>Max Mayfield</dc:creator>
  <dc:description/>
  <dc:language>en-US</dc:language>
  <cp:lastModifiedBy>Rick Knabb</cp:lastModifiedBy>
  <dcterms:modified xsi:type="dcterms:W3CDTF">2005-03-09T14:00:06Z</dcterms:modified>
  <cp:revision>185</cp:revision>
  <dc:subject/>
  <dc:title>Slide 1</dc:title>
</cp:coreProperties>
</file>