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092-24E0-448B-901B-B5AB63A6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939-71A8-485A-8063-9B52C471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4B4-9C8E-4480-8AAB-46643974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A5B-03A9-43BE-9050-EC57825E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899-01AA-4F74-A028-8467DDDE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20C-CC7E-4722-86C3-6E1C9712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786-F82C-4C7D-9BB7-1FDD0827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E9F-F907-49EC-8333-3B7A42C7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6BC-D38E-4705-AF31-BCC7D938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A90-46E8-4EDF-A948-1893DF2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A9A-6CA9-4972-AADD-A75829A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B00-491F-4006-923E-989E14AF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5714-6DEB-4988-B1E9-44BBD47E8C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19440" y="20304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607000"/>
            <a:ext cx="9144000" cy="1251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469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oint Hurricane Test Bed (JHT)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2005 IHC Upd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106200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91440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W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3657600"/>
            <a:ext cx="8610480" cy="1469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Jiann-Gwo Ji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HT Directo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cal Support Branch Chief, TPC/NHC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 March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8A7-24F1-48D9-801B-D4ED96B888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Y05 Selectio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4572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available funding $1.2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ers’ scores used to produce a rank ordering of the proposals by overall mean total sc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normalizing by each individual reviewer’s mean total s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and JHT Directors (and EMC Director for model-related projects) recommend funding top 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ropos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k order unchanged from review scoring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ing maximum number of proposals given available fu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ing approval in prog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 funded work period April 2005-April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-year projects initially funded for one year, and will be reviewed after first year for a second year of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DEB-0972-4B14-B4F2-08DAA8111A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23840" y="1905120"/>
          <a:ext cx="8886960" cy="4038480"/>
        </p:xfrm>
        <a:graphic>
          <a:graphicData uri="http://schemas.openxmlformats.org/drawingml/2006/table">
            <a:tbl>
              <a:tblPr/>
              <a:tblGrid>
                <a:gridCol w="660096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 of Fo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sity forecast guid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ne structure/wind distribu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perational environ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34308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rd Round (FY05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ject Focus Areas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ending Final Funding Approv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185-9869-4E38-8C83-AF3D645112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54280" y="1738440"/>
          <a:ext cx="6170400" cy="48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738440"/>
                    <a:ext cx="617040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nd Round (FY03) Funding Distribution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$1.35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80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NOAA 4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16606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Private Companies 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419720"/>
            <a:ext cx="167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State and Private Universities 3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193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Navy (NPS, NRL) 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028-D515-4F0D-9D14-AE24FAF7AA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52280"/>
            <a:ext cx="86868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Round (FY05) Funding Distribution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$1.2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4280" y="1738440"/>
          <a:ext cx="6170400" cy="48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738440"/>
                    <a:ext cx="617040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858000" y="380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NOAA 3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16606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Private Companies 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419720"/>
            <a:ext cx="167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State and Private Universities 3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2193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Navy (NPS, NRL) 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BF9-5C48-4DCE-BDCE-0A02A57FFA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6858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.aoml.noaa.gov/hrd/Landsea/j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0"/>
            <a:ext cx="8458200" cy="609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Web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36E-A533-406B-A480-C0E80AD0BA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5520" y="68580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HT Outreach Present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295280"/>
            <a:ext cx="8839080" cy="2489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WS regional marine and tropical workshops (March-April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Hurricane Conference (April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S Conference on Hurricanes and Tropical Meteorology (May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AA Hurricane Conference (December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S Annual Meeting (January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B22-9018-4098-89A4-B26CA8EBAA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52560"/>
            <a:ext cx="8915400" cy="1090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00" y="914400"/>
            <a:ext cx="8991720" cy="4952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Steering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chard Knabb, TPC SOO and JHT Admin. As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 Landsea, AOML/HRD and JHT Admin. As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son Krautkramer, JHT IT Speci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principal investigators and other funded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d Seguin and John Gaynor (USW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and EMC forecaster and technical points of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TSB I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NHC  admin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760" y="5915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.aoml.noaa.gov/hrd/Landsea/j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EC2-F49F-4DC8-A3F7-CBE900B7EF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52560"/>
            <a:ext cx="8915400" cy="1090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pplemental Sli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FB2-9658-4A81-B167-6916CCC335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81080" y="1523880"/>
          <a:ext cx="8762760" cy="4488120"/>
        </p:xfrm>
        <a:graphic>
          <a:graphicData uri="http://schemas.openxmlformats.org/drawingml/2006/table">
            <a:tbl>
              <a:tblPr/>
              <a:tblGrid>
                <a:gridCol w="6410160"/>
                <a:gridCol w="2352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 of Fo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 algorith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sity forecasting algorith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 intensity estim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gene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inf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ond Round (FY03-04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ject Focus Are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ABE-F6C0-4AE7-98FA-7BD4B8822D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for JHT Project Report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the TPC Direct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PI final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staff members’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Point of Contact (POC)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IT Facilitator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transfer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ility and support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s of costs to implement and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from TPC Technical Support Branch Ch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8B2-FED3-42AB-83BF-53804C47C6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086600" cy="4876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Round Projects (FY01-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Round Projects (FY03-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Round Projects (FY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HT Website and Outreach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DF9-8E70-4ADF-86BC-CEB9BEC3B6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us of 10 First Round Projects     (FY01-0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76520"/>
            <a:ext cx="838224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 projects were funded in FY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was denied second year f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 were accepted for oper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ation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s on two projects were deferred unt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ompletion of closely related new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was not accepted for oper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ation at thi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76B-03CA-4B0F-B160-ED42572F30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HT Issues (200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60" y="786960"/>
            <a:ext cx="8991360" cy="5689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ck of initial fairness and open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ddressed by the JHT Federal Register Notices in 2003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d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AA laboratories have an unfair advantage over non-NOAA research instit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ore than half of the funds awarded in FY 03 went to non-NOAA institutio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even greater non-NOAA funding expected in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HT Steering Committee comprises four non-NOAA members and three NOA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vy workload for T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 projects will be active during at least part of 2005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tended to be the only year with overlap of two project rou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act on administrative, technical, and operations staf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PC and JHT staffs are identifying ways to streamline and delegate work, based on lessons learned from completion of a full first round of projects, and a partial second 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F13-CB15-4356-A05A-E55F7CD0A5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HT Issues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560" y="786960"/>
            <a:ext cx="8991360" cy="5257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ential lack of resources for operational implementation of beneficial, cutting-edge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ill seek funding to implement such techniques as needs ar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ding cycle and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ngthy process from announcement of opportunity to dispersal of funds to non-NOAA particip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OAA is addressing the grants applications and award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 two rounds asynchronous with hurricane season (would be highly desirable for projects to not miss a hurricane seas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arlier release of FY05 announcement of opport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D65-198B-4BC0-ACFA-1959F31ADE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hc_latest" descr=""/>
          <p:cNvPicPr/>
          <p:nvPr/>
        </p:nvPicPr>
        <p:blipFill>
          <a:blip r:embed="rId1"/>
          <a:stretch/>
        </p:blipFill>
        <p:spPr>
          <a:xfrm>
            <a:off x="4160880" y="4648320"/>
            <a:ext cx="1828800" cy="17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1650960" cy="1752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99556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SHIPS model predi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64081" t="67686" r="19082" b="16923"/>
          <a:stretch/>
        </p:blipFill>
        <p:spPr>
          <a:xfrm>
            <a:off x="376200" y="1144440"/>
            <a:ext cx="2193840" cy="2192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93920" y="1131840"/>
            <a:ext cx="2819520" cy="224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172200" y="3733920"/>
            <a:ext cx="2830680" cy="2187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33520" y="330516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MSU intensity and size estim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30880" y="33415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FDL Hurricane Model upgr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15000" y="5956200"/>
            <a:ext cx="2210040" cy="82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C rainfall climatology and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-CLIPER)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040" y="610704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ability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pid intens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095880" y="1143000"/>
            <a:ext cx="2895840" cy="2238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74520" y="4051440"/>
            <a:ext cx="2667240" cy="2097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52280" y="12384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First Round (FY01-02) Projects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pted in 2003 by TPC and NCEP for Operational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574-D8C3-452C-8F19-F0C0D698FE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ctors Considered in TPC Decisio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 Operational Implementation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pplied to decisions on all Round One and Two projects completed to dat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3657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orecast or Analysis Benefit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ected improvement in operational forecast and/or analysis accu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Efficiency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dherence to forecaster time constraints and ease of use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Compatibility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IT compatibility with operational hardware, software, data, communication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Sustainability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vailability of resources to operate, upgrade, and/or provid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C2A-063D-4CF5-BF0E-F4AC47BD71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3880"/>
            <a:ext cx="8991720" cy="2489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 projects were initially funded late in FY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-1713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 two-year and 3 one-year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s presented updates at 5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HC (Mar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-time testing and evaluation during 2004 hurricane 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one-year projects concluded (Aug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-1713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HT reports to TPC/NHC Director (Nov 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-1713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jects accepted by TPC/NHC Director for operational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two-year projects renewed for a second year (FY04 fund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-1713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ing and evaluation to continue during 2005 hurricane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-1713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s on operational implementation in lat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5520" y="68580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us of 15 Second Round Projects (FY03-0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5D1-BCEA-409D-86D5-25CA31F25F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752480"/>
            <a:ext cx="8991720" cy="1981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447920"/>
            <a:ext cx="8686800" cy="5105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 evening session at AMS Conference on Hurricanes and Tropical Meteorology (May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Announcement of Federal Funding Opportunity (AFFO) published June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icited proposals for new, third round projects (FY05 fund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of full proposals completed January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l selection and funding to be completed during March-April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-time testing and evaluation during 2005 hurricane season (and in 2006 for renewed two-year proje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sions in 2006 or 2007 on operational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l Timetable for Round Three Projects (FY05 Fund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9AB-9C8A-428E-BFBC-C100BE9ABB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8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 Aspects to FY05 Announc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ed TPC and EMC prioritized forecast improvement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sed proposal review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icit listing of criteria used by TPC for decisions on operational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4B3-9C50-4F84-B7A2-63E8DE4878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8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Y05 JHT Proposal Review Criteri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ndensed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447920"/>
            <a:ext cx="7924680" cy="4267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Relevance to program goals (40 p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earch maturity (10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y-to-payoff factors (25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gency use (5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Technical merit (40 p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-to-payoff factors (10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ing (10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al usage (10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compatibility (10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Overall qualification of applicants (10 p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Project costs (10 p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CC9-89F6-42BB-BF12-05D09DCCA4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724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Y05 Review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8991720" cy="35816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applications (Letters of Intent) reviewed in Aug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 preapplications revie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 recommended to submit a full propo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proposals reviewed during Nov 2004 – Ja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proposals revie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als independently reviewed and scored by 7 JHT Steering Committee members based upon review criteria listed in the AF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BA0-A5E6-4C7D-9873-04E48656F6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7:33:53Z</dcterms:created>
  <dc:creator> </dc:creator>
  <dc:description/>
  <dc:language>en-US</dc:language>
  <cp:lastModifiedBy> </cp:lastModifiedBy>
  <dcterms:modified xsi:type="dcterms:W3CDTF">2005-03-09T12:37:02Z</dcterms:modified>
  <cp:revision>569</cp:revision>
  <dc:subject/>
  <dc:title>Slide 1</dc:title>
</cp:coreProperties>
</file>