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23D-4605-4969-9265-C140877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558-FFFC-4F5C-924F-F21E3A50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42B-90B4-4F52-9F81-D56B6559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DD1-ADEA-4069-BA22-40C7C060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94B-ECB6-4799-999F-58495A1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BF9-2A37-4B35-80D4-6408FA8B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FC1-0254-4203-AAD6-AA8BA7C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828-61BC-49E6-AC3A-EDF8FE8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317-3CCE-47A4-9ECF-C448BDBA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091-A0C9-4744-AFD3-49E4F3A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85D-5D5F-44BB-B8F7-392AF83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FAC-E8F3-4974-ABD4-8BB4B3E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15C-6ED9-4F3D-8B5F-307F5FE02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9440" y="20304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607000"/>
            <a:ext cx="9144000" cy="12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 Hurricane Test Bed (JHT)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2005 IHC Up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06200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91440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W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365760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Jiann-Gwo Ji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Support Branch Chief, TPC/NH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 March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B65-7C84-4175-B8EE-800D4C664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Select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4572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available funding $1.2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ers’ scores used to produce a rank ordering of the proposals by overall mean total s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normalizing by each individual reviewer’s mean total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JHT Directors (and EMC Director for model-related projects) recommend funding top 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k order unchanged from review scoring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ing maximum number of proposals given available f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ing approval in pro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 funded work period April 2005-April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-year projects initially funded for one year, and will be reviewed after first year for a second year of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5A8-B70A-4D2C-8A3A-030ABECD6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23840" y="1905120"/>
          <a:ext cx="8886960" cy="4038480"/>
        </p:xfrm>
        <a:graphic>
          <a:graphicData uri="http://schemas.openxmlformats.org/drawingml/2006/table">
            <a:tbl>
              <a:tblPr/>
              <a:tblGrid>
                <a:gridCol w="66009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 distribu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4308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rd Round (FY05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 Focus Areas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ending Final Funding Appro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DE5-1B3D-489A-B54C-4B801C57C0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54280" y="1738440"/>
          <a:ext cx="6170400" cy="48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738440"/>
                    <a:ext cx="61704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nd Round (FY03) Funding Distribution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$1.3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OAA 4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660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Private Companies 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41972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State and Private Universities 3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avy (NPS, NRL) 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F54-61A2-4C69-B670-936E408C28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5228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Round (FY05)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$1.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4280" y="1738440"/>
          <a:ext cx="6170400" cy="48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738440"/>
                    <a:ext cx="61704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85800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OAA 3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1660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Private Companies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41972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State and Private Universities 3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Navy (NPS, NRL) 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21B-7DDE-4DE8-BC71-D809447D1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6858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aoml.noaa.gov/hrd/Landsea/j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FC3-2E9F-4E4D-88D1-D9C09B0198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5520" y="68580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Outreach Present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8839080" cy="2489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WS regional marine and tropical workshops (March-April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Hurricane Conference (April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S Conference on Hurricanes and Tropical Meteorology (May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Hurricane Conference (December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S Annual Meeting (January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A41-4EA8-44A6-831B-8BB43D3C19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00" y="91440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chard Knabb, TPC SOO and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, AOML/HRD and JHT Admin. As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son Krautkramer, JHT IT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d Seguin and John Gaynor (USW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TSB I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NHC  admin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760" y="5915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aoml.noaa.gov/hrd/Landsea/j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1AD-F398-4EF2-A08B-F2AF8594A5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lemental Sli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9E9-494E-4911-B483-5B12E55FC8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81080" y="1523880"/>
          <a:ext cx="8762760" cy="4488120"/>
        </p:xfrm>
        <a:graphic>
          <a:graphicData uri="http://schemas.openxmlformats.org/drawingml/2006/table">
            <a:tbl>
              <a:tblPr/>
              <a:tblGrid>
                <a:gridCol w="6410160"/>
                <a:gridCol w="235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 algorith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ing algorith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intensity esti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gene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nf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7632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ond Round (FY03-04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 Focus Are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3B1-023E-4557-8B09-A685CE3D45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for JHT Project Repor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TPC Direct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PI final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aff members’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Point of Contact (POC)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IT Facilitator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transfer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ility and support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of costs to implement and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from TPC Technical Support Branch Ch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7AC-F932-4894-9BC4-A9BDC89CF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086600" cy="4876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Round Projects (FY01-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Round Projects (FY03-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Round Projects (FY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HT Website and Outreach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E4E-DF7B-43F1-AEA9-9EFB69040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10 First Round Projects     (FY01-0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76520"/>
            <a:ext cx="838224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 projects were funded in FY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as denied second year 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 were accepted for 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 on two projects were deferred un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mpletion of closely related new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was not accepted for 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at t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6F5-996C-400E-86B9-37A3D0335B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Issues (200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" y="786960"/>
            <a:ext cx="8991360" cy="5689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initial fairness and open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ddressed by the JHT Federal Register Notices in 2003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d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AA laboratories have an unfair advantage over non-NOAA research instit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ore than half of the funds awarded in FY 03 went to non-NOAA institu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even greater non-NOAA funding expected in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HT Steering Committee comprises four non-NOAA members and three NOA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vy workload for T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 projects will be active during at least part of 2005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ended to be the only year with overlap of two project ro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act on administrative, technical, and operations staf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PC and JHT staffs are identifying ways to streamline and delegate work, based on lessons learned from completion of a full first round of projects, and a partial second 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19D-F9C1-4282-9A54-5B8D471FCA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HT Issues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60" y="786960"/>
            <a:ext cx="8991360" cy="5257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lack of resources for operational implementation of beneficial, cutting-edge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ill seek funding to implement such techniques as needs a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ding cycle and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ngthy process from announcement of opportunity to dispersal of funds to non-NOAA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OAA is addressing the grants applications and award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two rounds asynchronous with hurricane season (would be highly desirable for projects to not miss a hurricane seas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arlier release of FY05 announcement of opport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D8E-280D-490D-9D3F-8C773250D8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hc_latest" descr=""/>
          <p:cNvPicPr/>
          <p:nvPr/>
        </p:nvPicPr>
        <p:blipFill>
          <a:blip r:embed="rId1"/>
          <a:stretch/>
        </p:blipFill>
        <p:spPr>
          <a:xfrm>
            <a:off x="4160880" y="4648320"/>
            <a:ext cx="1828800" cy="17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1650960" cy="1752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99556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SHIPS model predi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64081" t="67686" r="19082" b="16923"/>
          <a:stretch/>
        </p:blipFill>
        <p:spPr>
          <a:xfrm>
            <a:off x="376200" y="1144440"/>
            <a:ext cx="2193840" cy="2192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93920" y="1131840"/>
            <a:ext cx="2819520" cy="224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72200" y="3733920"/>
            <a:ext cx="2830680" cy="2187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3520" y="33051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SU intensity and size estim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0880" y="3341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DL Hurricane Model upgr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15000" y="5956200"/>
            <a:ext cx="221004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C rainfall climatology and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-CLIPER)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040" y="610704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ilit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pid intens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095880" y="1143000"/>
            <a:ext cx="2895840" cy="2238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4520" y="4051440"/>
            <a:ext cx="2667240" cy="209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52280" y="12384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First Round (FY01-02) Projects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pted in 2003 by TPC and NCEP for Operational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32D-C7CC-4C74-A19E-B2D930892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ctors Considered in TPC Decis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 Operational Implementation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pplied to decisions on all Round One and Two projects completed to dat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orecast or Analysis Benefit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ected improvement in operational forecast and/or analysis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fficienc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dherence to forecaster time constraints and ease of use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Compatibilit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IT compatibility with operational hardware, software, data, communicatio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Sustainabilit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vailability of resources to operate, upgrade, and/or provid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753-6D9D-45FA-856A-84DD5F6C7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3880"/>
            <a:ext cx="8991720" cy="2489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 projects were initially funded late in FY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two-year and 3 one-year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s presented updates at 5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HC (Mar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 testing and evaluation during 2004 hurricane 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one-year projects concluded (Aug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reports to TPC/NHC Director (Nov 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jects accepted by TPC/NHC Director for operational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two-year projects renewed for a second year (FY04 fund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and evaluation to continue during 2005 hurricane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5680" indent="-171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on operational implementation in lat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5520" y="68580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us of 15 Second Round Projects (FY03-0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4B0-AD7F-4543-963C-6FFA5B588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752480"/>
            <a:ext cx="8991720" cy="19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447920"/>
            <a:ext cx="8686800" cy="5105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evening session at AMS Conference on Hurricanes and Tropical Meteorology (May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nnouncement of Federal Funding Opportunity (AFFO) published June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icited proposals for new, third round projects (FY05 fun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of full proposals completed Januar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selection and funding to be completed during March-April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-time testing and evaluation during 2005 hurricane season (and in 2006 for renewed two-year proj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s in 2006 or 2007 on operational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l Timetable for Round Three Projects (FY05 Fund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626-15FC-4AAE-A5D3-55AE46B19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 Aspects to FY05 Announc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d TPC and EMC prioritized forecast improvement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sed proposal review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icit listing of criteria used by TPC for decisions on operational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3DA-C3C0-43E0-B951-B7790407C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JHT Proposal Review Criter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ndensed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447920"/>
            <a:ext cx="7924680" cy="426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Relevance to program goals (4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arch maturity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y-to-payoff factors (25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gency use (5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Technical merit (4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-to-payoff factors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usage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compatibility (10 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Overall qualification of applicants (1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Project costs (10 p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49F-192C-4FDA-95B0-83ADE64B6A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724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Review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91720" cy="3581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applications (Letters of Intent) reviewed in Aug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preapplications revie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 recommended to submit a full pro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proposals reviewed during Nov 2004 – Ja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proposals revie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s independently reviewed and scored by 7 JHT Steering Committee members based upon review criteria listed in the AF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BAF-C799-44CB-854E-B16DB4426E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7:33:53Z</dcterms:created>
  <dc:creator> </dc:creator>
  <dc:description/>
  <dc:language>en-US</dc:language>
  <cp:lastModifiedBy> </cp:lastModifiedBy>
  <dcterms:modified xsi:type="dcterms:W3CDTF">2005-03-09T12:37:02Z</dcterms:modified>
  <cp:revision>569</cp:revision>
  <dc:subject/>
  <dc:title>Slide 1</dc:title>
</cp:coreProperties>
</file>