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2.wmf" ContentType="image/x-wmf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171E-043A-4BBF-A632-55C677892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F173-9C84-48FE-BA34-2B89A6C5C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B752-40AB-4A1E-B217-F525489A9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AEDA-97C9-4889-901A-D4640D56F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825C-FCA0-47EF-A0DF-A6842FBE4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C249-C5ED-4AA8-AC86-428DF34A7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B538-B419-4425-89BC-7A5C82EB8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07A1-3C3D-40E3-AAE8-5B7216A2C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B14F-2731-4837-916F-1A989C743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35DC-54E5-4404-87D5-AE1B1C29E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4838-0D94-4AA8-B225-DF6C2B95D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F89C-6C35-4DE3-8E96-7A2682002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8184D-56F3-47D3-A632-D8AB79AD65B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19440" y="203040"/>
            <a:ext cx="16002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920" y="1447560"/>
            <a:ext cx="8610480" cy="146988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Joint Hurricane Testbed (JHT) 2008 IHC Updat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886200" y="304920"/>
            <a:ext cx="1062000" cy="53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886200" y="914400"/>
            <a:ext cx="111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SWR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70000" y="4092480"/>
            <a:ext cx="8610480" cy="147024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iann-Gwo Jiing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HT Directo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HC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219320" y="5165640"/>
            <a:ext cx="198108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hirley Murill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AA/HR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562720" y="5165640"/>
            <a:ext cx="198108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ris Landse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H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33200" y="6146640"/>
            <a:ext cx="184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 March  200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17DD-77D6-4E46-97BF-C2864CAB4AB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457200" y="304920"/>
            <a:ext cx="8686800" cy="114300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4th Round (FY07) Recommended Funding Distribution</a:t>
            </a:r>
            <a:br>
              <a:rPr sz="4000"/>
            </a:b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otal $1.04M ($1.5M announce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562720" y="5715000"/>
            <a:ext cx="32004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Private Companies 24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676520" y="2117880"/>
            <a:ext cx="16761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NOAA 20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24480" y="1981080"/>
            <a:ext cx="1676520" cy="131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State and Private Universities 33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447920" y="5105520"/>
            <a:ext cx="175248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Navy (NPS, NRL) 11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3886200"/>
            <a:ext cx="16765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NASA 12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rcRect l="21114" t="6856" r="18891" b="7465"/>
          <a:stretch/>
        </p:blipFill>
        <p:spPr>
          <a:xfrm>
            <a:off x="2362320" y="1828800"/>
            <a:ext cx="4572000" cy="42339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7297560" y="3005280"/>
            <a:ext cx="1843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E6EA-AF46-4D49-B825-F440D79BA21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123840" y="1905120"/>
          <a:ext cx="8886960" cy="4419360"/>
        </p:xfrm>
        <a:graphic>
          <a:graphicData uri="http://schemas.openxmlformats.org/drawingml/2006/table">
            <a:tbl>
              <a:tblPr/>
              <a:tblGrid>
                <a:gridCol w="6962760"/>
                <a:gridCol w="1924200"/>
              </a:tblGrid>
              <a:tr h="83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rimary Area of Focu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# of Project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3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rovements to dynamical models (for track, intensity, and precipitation forecasts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atistical intensity forecast guidanc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nhancements to observed data, assimilati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opical cyclone structure/wind/wave distributi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ack forecast guidanc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nhancements to operational environm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0*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4" name=""/>
          <p:cNvSpPr/>
          <p:nvPr/>
        </p:nvSpPr>
        <p:spPr>
          <a:xfrm>
            <a:off x="0" y="343080"/>
            <a:ext cx="9144000" cy="156204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4th Round Recommended Project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ocus Areas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59CE-D322-448A-B026-F87FD2E1C480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hallenges for FY08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257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naging 10 projects with wide spread starting da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view 4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round two-year projects for second year fun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eparation of the Announcement of Opportunity for the 5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round (FY09-10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al-time Testing and eval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lementation of new projects (NHC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uture funding (FY09 - 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B560-1FB5-429F-8CD7-8E14CA64B45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新細明體"/>
              </a:rPr>
              <a:t>Summary of JHT Activities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新細明體"/>
              </a:rPr>
              <a:t>2001-2007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458200" cy="4114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新細明體"/>
              </a:rPr>
              <a:t>Total projects funded (round 1-4) – 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新細明體"/>
              </a:rPr>
              <a:t>Number of projects completed (round 1-3) – 3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新細明體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(One was denied funding after first yea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新細明體"/>
              </a:rPr>
              <a:t>Number of projects accepted for implementation – 28.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新細明體"/>
              </a:rPr>
              <a:t>Number of completed projects not accepted – 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新細明體"/>
              </a:rPr>
              <a:t>Number of completed projects pending further evaluation – 6.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新細明體"/>
              </a:rPr>
              <a:t>Number of projects implemented – 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  <a:ea typeface="新細明體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33520" y="5943600"/>
            <a:ext cx="7848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Dedicated NHC &amp; JHT staff, and close collaborations between the PIs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NHC forecasters and support staf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91E5-2BE2-49D7-ADDA-A590C821FC87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52280" y="52560"/>
            <a:ext cx="8915400" cy="1090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cknowledgemen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600" y="914400"/>
            <a:ext cx="8991720" cy="495288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HT Steering Committe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irley Murillo, NOAA/HRD, JHT Admin. Ass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ris Landsea, NHC, JHT Admin. Ass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ose Salazar, JHT meteorologist/programm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HT principal investigators and other funded participa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WR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HC and EMC forecaster and points of conta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HC/Technical Support Branch sta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HC admin sta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E806-06D0-420A-A0CF-E8F026C85E6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80880" y="0"/>
            <a:ext cx="8458200" cy="60948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JHT Websit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9260" t="0" r="1854" b="3636"/>
          <a:stretch/>
        </p:blipFill>
        <p:spPr>
          <a:xfrm>
            <a:off x="685800" y="762120"/>
            <a:ext cx="7848720" cy="60498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279960" y="417600"/>
            <a:ext cx="273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o to www.nhc.noaa.go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D0C9-DD38-4E6D-B82B-C7F6437465F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3619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9018-199A-4F52-AEAA-AB05A646A02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52280" y="2262240"/>
            <a:ext cx="8915400" cy="109044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pplemental Slid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3E29-59D1-4643-89C8-0D3D4DDD448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88920"/>
            <a:ext cx="8229600" cy="83808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JHT Infrastructure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44480" y="1076400"/>
            <a:ext cx="7772400" cy="45259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3366"/>
            </a:outerShdw>
          </a:effectLst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e701"/>
                </a:solidFill>
                <a:latin typeface="Arial"/>
              </a:rPr>
              <a:t>Personne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Quarter-time Director (NOAA FT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7-member Steering Committe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ree from NOAA (one TPC), two from DOD, and two from the academic commun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PC member serves as co-Chai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wo quarter-time administrative assistants (NOAA FTE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e IT Facilit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e701"/>
                </a:solidFill>
                <a:latin typeface="Arial"/>
              </a:rPr>
              <a:t>Computing Resour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rver and workst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ftw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28CE-ACE9-4657-AB7E-B210FBCEDDF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Factors Considered in TPC Decision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on Operational Implementation</a:t>
            </a:r>
            <a:br>
              <a:rPr sz="3600"/>
            </a:b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229600" cy="365760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3366"/>
            </a:outerShdw>
          </a:effectLst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Forecast or Analysis Benefit: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expected improvement in operational forecast and/or analysis accura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Efficiency: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adherence to forecaster time constraints and ease of use nee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Compatibility: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IT compatibility with operational hardware, software, data, communications,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Sustainability: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availability of resources to operate, upgrade, and/or provide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4E7D-8C5E-4A0D-ADB1-F4069347B96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Outline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atus of Third Round Projects (FY05-0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atus of Fourth Round Projects (FY07-08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llenges for 200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D403-1E3B-47F0-8BF3-616A4DEDE83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Arial"/>
              </a:rPr>
              <a:t>JHT Fourth Round (FY07-08) Projects </a:t>
            </a:r>
            <a:br>
              <a:rPr sz="36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ntensity, structure, and track projects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457200" y="1295280"/>
          <a:ext cx="8305920" cy="5416560"/>
        </p:xfrm>
        <a:graphic>
          <a:graphicData uri="http://schemas.openxmlformats.org/drawingml/2006/table">
            <a:tbl>
              <a:tblPr/>
              <a:tblGrid>
                <a:gridCol w="4114800"/>
                <a:gridCol w="2133720"/>
                <a:gridCol w="2057400"/>
              </a:tblGrid>
              <a:tr h="52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e701"/>
                          </a:solidFill>
                          <a:latin typeface="Arial"/>
                        </a:rPr>
                        <a:t>Proposal Tit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e701"/>
                          </a:solidFill>
                          <a:latin typeface="Arial"/>
                        </a:rPr>
                        <a:t>P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e701"/>
                          </a:solidFill>
                          <a:latin typeface="Arial"/>
                        </a:rPr>
                        <a:t>TPC PO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6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roving the Hurricane WRF-Ocean Coupled System for Transition to Operations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inis, Isaac (Univ. of Rhode Island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sch, Mainelli,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ngialos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zano/Tolman (EMC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1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 Improved Wind Probability Estimation Program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an Kidde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CSU), DeMaria,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rk (NESDIS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rr, Pat (NPS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nabb, Lauer,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inelli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2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urricane Model Transitions to Operations at NCEP/EMC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leya, Bob (SAIC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sch, Fiorino,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home,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rgi (EMC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4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b-ATCF, user Requirements and Intensity Consensus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ampson, Charles (NRL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nabb, Franklin, Sisko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valuation and Improvement of Ocean Model Parameterizations for NCEP Operations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ay, Nick (UM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vila, Rhome, Baig,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zano(EMC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FED4-2AA3-474B-BBCF-5EF38AA40D57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Arial"/>
              </a:rPr>
              <a:t>JHT Fourth Round (FY07-08) Projects </a:t>
            </a:r>
            <a:br>
              <a:rPr sz="36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ntensity, structure, and track projects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880" y="990720"/>
          <a:ext cx="8382240" cy="5763960"/>
        </p:xfrm>
        <a:graphic>
          <a:graphicData uri="http://schemas.openxmlformats.org/drawingml/2006/table">
            <a:tbl>
              <a:tblPr/>
              <a:tblGrid>
                <a:gridCol w="4233960"/>
                <a:gridCol w="2075040"/>
                <a:gridCol w="2073240"/>
              </a:tblGrid>
              <a:tr h="57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e701"/>
                          </a:solidFill>
                          <a:latin typeface="Arial"/>
                        </a:rPr>
                        <a:t>Proposal Tit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e701"/>
                          </a:solidFill>
                          <a:latin typeface="Arial"/>
                        </a:rPr>
                        <a:t>P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e701"/>
                          </a:solidFill>
                          <a:latin typeface="Arial"/>
                        </a:rPr>
                        <a:t>TPC PO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rational Use of Near-Real Time Surface Directional Wave Spectra Generated from NOAA Scanning Radar Altimeter Range Measurements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lsh, Edward (NASA/GFSC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ven, Willis,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rown, Baig 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4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gh Wind Drag Coefficient and Sea Surface Roughness in Shallow Water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well, Mar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OAA/AOML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anklin, Blake,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lman (EMC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1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alidation and Processing Tools for the AF Reserves Command 53rd Weather Reconnaissance Squadron WC-130J Multi-Aircraft SFMR Systems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. Carswel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RSS, Inc.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. Blac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AOML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ven, Brown,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sko, Christensen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1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valuation and Improvement of Spray-Modified Air-Sea Enthalpy and Momentum Flux Paramete-rizations for operational Hurricane Prediction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. Bao,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. Fairall,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. Wilcza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ESRL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sch, Berg,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iorino,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rgi/Kwon (EMC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2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C Dressing: A Probabilistic Approach to Providing State Dependent, Non-Isotropic Forecast Track Error Guidance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. Hans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. Goers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RL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anklin, Blake,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sko, Mundell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009E-7A77-49EC-9DF6-DA2E7C07BAA1}" type="slidenum">
              <a:t>21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533520"/>
            <a:ext cx="914400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tatus of 3</a:t>
            </a:r>
            <a:r>
              <a:rPr b="1" lang="en-US" sz="40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round JHT projects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(FY05-07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3520" y="1981080"/>
            <a:ext cx="7924680" cy="399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AA projects completed in April 200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-NOAA projects completed in August 200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PC/NHC POC provided evaluation and feedba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HT staff conducts IT eval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HT staff prepares final evaluations and reports to TPC Directo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7D80-511E-4715-8DAE-2CB4811C100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tatus of 3</a:t>
            </a:r>
            <a:r>
              <a:rPr b="1" lang="en-US" sz="40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round JHT projects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(FY05-07)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nter Directors’ decision on project accept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5 projects completed (August 2007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1.5 projects accepted for operational implem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5 projects require further evalu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tus of implemen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0 accepted projects implemen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94D6-9685-4ADE-8EE5-EFDA2485FCA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181080"/>
            <a:ext cx="914400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JHT Third Round (FY05-06) Projects</a:t>
            </a:r>
            <a:br>
              <a:rPr sz="4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ynamical model upgrades, observational, and assimilation projects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380880" y="1066680"/>
          <a:ext cx="8763120" cy="5961240"/>
        </p:xfrm>
        <a:graphic>
          <a:graphicData uri="http://schemas.openxmlformats.org/drawingml/2006/table">
            <a:tbl>
              <a:tblPr/>
              <a:tblGrid>
                <a:gridCol w="4883400"/>
                <a:gridCol w="1517400"/>
                <a:gridCol w="1676520"/>
                <a:gridCol w="685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roposal Tit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I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HC POC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urricane Model Transition to Operations at GFDL/NOA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nde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sch, Rhom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urricane Model Transition to Operations at GFDL/NOA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ley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sch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rag Coefficient and Wind Speed Dependence in TC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wel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ankli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0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ynamic Initialization to Improve TC Intensity and Structure Forecast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ou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sch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rational SFMR-NAWIPS Airborne Processing and Data Distribution Product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rswell, Black, Cha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ven, Mainelli, Sisko, Laue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/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pping of Topographic Effects on Maximum Sustained Surface Wind Speeds in Landfalling Hurrican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lle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v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similating Moisture Information from GPS Dropwindsondes into the NOAA Global Forecast System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bers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anklin, Blak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SR-88D-derived Diagnosis of Tropical Cyclone Intensity Changes Near Landfal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e, Harast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ewart, McAdi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28A5-D488-4BAB-B74B-7AD751342108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JHT Third Round (FY05-06) Projects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br>
              <a:rPr sz="36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nsity, structure, and track projects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380880" y="1066680"/>
          <a:ext cx="8763120" cy="5245200"/>
        </p:xfrm>
        <a:graphic>
          <a:graphicData uri="http://schemas.openxmlformats.org/drawingml/2006/table">
            <a:tbl>
              <a:tblPr/>
              <a:tblGrid>
                <a:gridCol w="4749840"/>
                <a:gridCol w="1650960"/>
                <a:gridCol w="1676520"/>
                <a:gridCol w="685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roposal Tit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I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HC POC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roved Statistical Intensity Forecast Model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naff, DeMaria, Kapla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vila, Sisk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nhancement of SHIPS Using Passive Microwave Imager Dat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eci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ewart, Sisk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astern Pacific Ocean Heat Content Estimates for SHIPS Forecast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ay, DeMari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vila, Mainell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inued Development of Tropical Cyclone Wind Probability Product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naff, DeMari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ue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1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stimating Tropical Cyclone Wind Radii Utilizing an Empirical Inland Wind Decay Mode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apla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ewart,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diction of Consensus TC Track Forecast Error and Correctors to Improve Consensus TC Track Forecast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oers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v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velopment and Implementation of NHC/JHT Products in ATCF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amps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sk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3731-0090-481B-B07F-07DE52578D41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352680" y="689040"/>
            <a:ext cx="5386680" cy="40878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30528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ighlights of Implemented 3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Round Projects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04920" y="1523880"/>
            <a:ext cx="3413160" cy="26812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1828800" y="990720"/>
            <a:ext cx="2209680" cy="2192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0" y="3505320"/>
            <a:ext cx="1523880" cy="17128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5"/>
          <a:stretch/>
        </p:blipFill>
        <p:spPr>
          <a:xfrm>
            <a:off x="5791320" y="3886200"/>
            <a:ext cx="3352680" cy="25131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6"/>
          <a:srcRect l="28870" t="0" r="16388" b="0"/>
          <a:stretch/>
        </p:blipFill>
        <p:spPr>
          <a:xfrm>
            <a:off x="2971800" y="2400480"/>
            <a:ext cx="3156120" cy="4457520"/>
          </a:xfrm>
          <a:prstGeom prst="rect">
            <a:avLst/>
          </a:prstGeom>
          <a:ln w="0">
            <a:noFill/>
          </a:ln>
        </p:spPr>
      </p:pic>
      <p:grpSp>
        <p:nvGrpSpPr>
          <p:cNvPr id="66" name=""/>
          <p:cNvGrpSpPr/>
          <p:nvPr/>
        </p:nvGrpSpPr>
        <p:grpSpPr>
          <a:xfrm>
            <a:off x="0" y="3335400"/>
            <a:ext cx="3505320" cy="3522600"/>
            <a:chOff x="0" y="3335400"/>
            <a:chExt cx="3505320" cy="3522600"/>
          </a:xfrm>
        </p:grpSpPr>
        <p:pic>
          <p:nvPicPr>
            <p:cNvPr id="67" name="" descr=""/>
            <p:cNvPicPr/>
            <p:nvPr/>
          </p:nvPicPr>
          <p:blipFill>
            <a:blip r:embed="rId7"/>
            <a:srcRect l="0" t="5220" r="1945" b="4008"/>
            <a:stretch/>
          </p:blipFill>
          <p:spPr>
            <a:xfrm>
              <a:off x="0" y="3335400"/>
              <a:ext cx="3505320" cy="352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984960" y="4302000"/>
              <a:ext cx="72720" cy="101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C1AD-E73E-44A0-8E11-CA595FEA1AC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rcRect l="15191" t="19378" r="5530" b="13501"/>
          <a:stretch/>
        </p:blipFill>
        <p:spPr>
          <a:xfrm>
            <a:off x="0" y="609480"/>
            <a:ext cx="6095880" cy="38750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454320" y="228600"/>
            <a:ext cx="422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opographic Speed-up Mapping To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733920" y="3827520"/>
            <a:ext cx="4647960" cy="30304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5486400" y="533520"/>
            <a:ext cx="3505320" cy="3117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BC9D-23B8-4CEC-8E19-CC05F3FF4D9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tatus of 4</a:t>
            </a:r>
            <a:r>
              <a:rPr b="1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round (2007-2009) projects</a:t>
            </a:r>
            <a:br>
              <a:rPr sz="4000"/>
            </a:b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72260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plication (28) Review completed in January 200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HT &amp; TPC Director sent recommendations (10 projects) to NOAA in early March 200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WRP sent notifications to PIs on March 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nding for NOAA PIs transferred in June 200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nding for Navy and private PIs transferred in late Septemb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E1B9-3C5B-4F3E-B699-B1B307B9069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14T17:33:53Z</dcterms:created>
  <dc:creator> </dc:creator>
  <dc:description/>
  <dc:language>en-US</dc:language>
  <cp:lastModifiedBy>Jiann-Gwo Jiing</cp:lastModifiedBy>
  <dcterms:modified xsi:type="dcterms:W3CDTF">2008-03-05T19:13:27Z</dcterms:modified>
  <cp:revision>622</cp:revision>
  <dc:subject/>
  <dc:title>Slide 1</dc:title>
</cp:coreProperties>
</file>