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BD5-52C6-4CB7-AAD5-C4AF8E41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B5B-1A17-44A5-8901-7DD6AD27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BA4-383B-4A63-B152-399CAD65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D44-73C3-4FD4-9A1F-5E19D4C1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D08-31A8-458D-AC36-DA746579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52A-A010-4CA9-A5C9-21426391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132-338F-474E-96BF-D10EFC69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458-D31E-4006-A2C5-F4C6B078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A5B-BD12-400C-B24F-E9AEAA1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762-AC9E-48CC-960C-600BD292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157-6462-4F00-B6B6-3F7C0ED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DA6-1353-425F-82CE-A9403C2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E4E-B678-4A4C-BE62-94EB74EFAE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19440" y="20304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oint Hurricane Testbed (JHT) 2008 IHC Upd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1062000" cy="53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91440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W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00" y="4092480"/>
            <a:ext cx="8610480" cy="1470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iann-Gwo Ji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Direct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C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165640"/>
            <a:ext cx="1981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rley Mur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AA/H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5165640"/>
            <a:ext cx="1981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is Land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200" y="614664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March 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6D3-D6F5-4E9E-A9C0-9ECA01D736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4th Round (FY07) Recommended Funding Distribution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$1.04M ($1.5M announc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715000"/>
            <a:ext cx="3200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ivate Companies 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117880"/>
            <a:ext cx="1676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AA 2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1981080"/>
            <a:ext cx="1676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te and Private Universities 3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05520"/>
            <a:ext cx="1752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vy (NPS, NRL) 1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3886200"/>
            <a:ext cx="1676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SA 1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1114" t="6856" r="18891" b="7465"/>
          <a:stretch/>
        </p:blipFill>
        <p:spPr>
          <a:xfrm>
            <a:off x="2362320" y="1828800"/>
            <a:ext cx="4572000" cy="4233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97560" y="30052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EB9-E454-40BC-AE8E-E672651230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23840" y="1905120"/>
          <a:ext cx="8886960" cy="4419360"/>
        </p:xfrm>
        <a:graphic>
          <a:graphicData uri="http://schemas.openxmlformats.org/drawingml/2006/table">
            <a:tbl>
              <a:tblPr/>
              <a:tblGrid>
                <a:gridCol w="6962760"/>
                <a:gridCol w="192420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al intensity forecast gu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ne structure/wind/wave distribu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perational environ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0" y="343080"/>
            <a:ext cx="9144000" cy="1562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th Round Recommended Projec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cus Area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2EB-0C87-4BAE-9839-734324C5C6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llenges for FY0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10 projects with wide spread starting 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ound two-year projects for second year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ation of the Announcement of Opportunity for the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ound (FY09-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l-time Testing and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 of new projects (NH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funding (FY09 -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245-9FD4-435A-9DC1-FB0E39F599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新細明體"/>
              </a:rPr>
              <a:t>Summary of JHT Activit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新細明體"/>
              </a:rPr>
              <a:t>2001-200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Total projects funded (round 1-4) –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projects completed (round 1-3) – 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(One was denied funding after fir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projects accepted for implementation – 28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completed projects not accepted 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completed projects pending further evaluation – 6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projects implemented –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943600"/>
            <a:ext cx="784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dicated NHC &amp; JHT staff, and close collaborations between the P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HC forecasters and support 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C5E-E24E-4FBC-955A-758DB0D308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5256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600" y="914400"/>
            <a:ext cx="8991720" cy="4952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HT Steering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rley Murillo, NOAA/HRD, JHT Admin. As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 Landsea, NHC, JHT Admin. As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 Salazar, JHT meteorologist/progra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HT principal investigators and other funded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W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C and EMC forecaster and points of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C/Technical Support Branch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C admin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F92-320B-449C-93DA-30C9FDDF07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Web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9260" t="0" r="1854" b="3636"/>
          <a:stretch/>
        </p:blipFill>
        <p:spPr>
          <a:xfrm>
            <a:off x="685800" y="762120"/>
            <a:ext cx="7848720" cy="6049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9960" y="4176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to www.nhc.noaa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DF7-715E-4741-9329-C0D5110DD4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2E5-23AA-4872-8DA6-8872E97B62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226224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pplemental Sli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346-6984-4BEC-BC07-08B5BC0FE8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HT Infrastruct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4480" y="1076400"/>
            <a:ext cx="77724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701"/>
                </a:solidFill>
                <a:latin typeface="Arial"/>
              </a:rPr>
              <a:t>Personn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-time Director (NOAA F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-member Steering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from NOAA (one TPC), two from DOD, and two from the academic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 member serves as co-Ch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quarter-time administrative assistants (NOAA FT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IT Facilit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701"/>
                </a:solidFill>
                <a:latin typeface="Arial"/>
              </a:rPr>
              <a:t>Compu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er and work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9EE-93B3-4B2E-A950-D01AC9E3A8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ctors Considered in TPC Decisio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 Operational Implementation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Forecast or Analysis Benefit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ected improvement in operational forecast and/or analysis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Efficienc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adherence to forecaster time constraints and ease of use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Compatibilit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T compatibility with operational hardware, software, data,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Sustainabilit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availability of resources to operate, upgrade, and/or provid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3A5-ACB4-48BF-A859-166C962638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us of Third Round Projects (FY05-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us of Fourth Round Projects (FY07-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llenges fo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73D-DD7C-45E8-81BD-A98C9BDA1D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JHT Fourth Round (FY07-08) Projects </a:t>
            </a:r>
            <a:br>
              <a:rPr sz="36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295280"/>
          <a:ext cx="8305920" cy="5416560"/>
        </p:xfrm>
        <a:graphic>
          <a:graphicData uri="http://schemas.openxmlformats.org/drawingml/2006/table">
            <a:tbl>
              <a:tblPr/>
              <a:tblGrid>
                <a:gridCol w="4114800"/>
                <a:gridCol w="2133720"/>
                <a:gridCol w="20574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roposal 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TPC PO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ing the Hurricane WRF-Ocean Coupled System for Transition to Operatio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nis, Isaac (Univ. of Rhode Island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Mainelli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gialo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zano/Tolman 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Improved Wind Probability Estimation Progra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 Kid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SU), DeMaria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 (NESD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r, Pat (NPS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bb, Lauer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ell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s to Operations at NCEP/EM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leya, Bob (SAI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Fiorino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me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gi 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-ATCF, user Requirements and Intensity Consensu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son, Charles (NRL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bb, Franklin, Sisk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 and Improvement of Ocean Model Parameterizations for NCEP Operatio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, Nick (U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Rhome, Baig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zano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D1A-F192-4DCC-ADBA-4B877B8595E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JHT Fourth Round (FY07-08) Projects </a:t>
            </a:r>
            <a:br>
              <a:rPr sz="36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990720"/>
          <a:ext cx="8382240" cy="5763960"/>
        </p:xfrm>
        <a:graphic>
          <a:graphicData uri="http://schemas.openxmlformats.org/drawingml/2006/table">
            <a:tbl>
              <a:tblPr/>
              <a:tblGrid>
                <a:gridCol w="4233960"/>
                <a:gridCol w="2075040"/>
                <a:gridCol w="207324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roposal 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TPC PO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Use of Near-Real Time Surface Directional Wave Spectra Generated from NOAA Scanning Radar Altimeter Range Measurement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sh, Edward (NASA/GFS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Willis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wn, Baig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Wind Drag Coefficient and Sea Surface Roughness in Shallow Wate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, Ma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AA/AOM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lman 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idation and Processing Tools for the AF Reserves Command 53rd Weather Reconnaissance Squadron WC-130J Multi-Aircraft SFMR System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Carsw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SS, Inc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 Bl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OML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Brown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, Christens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 and Improvement of Spray-Modified Air-Sea Enthalpy and Momentum Flux Paramete-rizations for operational Hurricane Predictio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Bao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 Fairall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Wilcz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RL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Berg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orino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gi/Kwon 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 Dressing: A Probabilistic Approach to Providing State Dependent, Non-Isotropic Forecast Track Error Guidanc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Hans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Goer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RL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, Mundel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231-2DE2-4165-82E7-D999F2FEAB1D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und JHT project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FY05-07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981080"/>
            <a:ext cx="792468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A projects completed in April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NOAA projects completed in August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PC/NHC POC provided evaluation and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HT staff conducts IT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HT staff prepares final evaluations and reports to TPC Direc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3F4-76ED-4C2F-B42C-249C8762E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und JHT project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FY05-07)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Directors’ decision on project accep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projects completed (August 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5 projects accepted for operational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 projects require further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accepted projects imple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1BA-F82B-440F-A1D6-D5CA2C40C7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108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Third Round (FY05-06) Projects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al model upgrades, observational, and assimilation projec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066680"/>
          <a:ext cx="8763120" cy="5961240"/>
        </p:xfrm>
        <a:graphic>
          <a:graphicData uri="http://schemas.openxmlformats.org/drawingml/2006/table">
            <a:tbl>
              <a:tblPr/>
              <a:tblGrid>
                <a:gridCol w="4883400"/>
                <a:gridCol w="1517400"/>
                <a:gridCol w="1676520"/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HC P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Rho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le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g Coefficient and Wind Speed Dependence in T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namic Initialization to Improve TC Intensity and Structure Forecas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o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SFMR-NAWIPS Airborne Processing and Data Distribution Produ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swell, Black, Cha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Mainelli, Sisko, Lau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/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ping of Topographic Effects on Maximum Sustained Surface Wind Speeds in Landfalling Hurrica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milating Moisture Information from GPS Dropwindsondes into the NOAA Global Forecast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SR-88D-derived Diagnosis of Tropical Cyclone Intensity Changes Near Landf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, Haras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McAd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85F-6C78-4703-A01E-152E35FC50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Third Round (FY05-06) Projects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066680"/>
          <a:ext cx="8763120" cy="5245200"/>
        </p:xfrm>
        <a:graphic>
          <a:graphicData uri="http://schemas.openxmlformats.org/drawingml/2006/table">
            <a:tbl>
              <a:tblPr/>
              <a:tblGrid>
                <a:gridCol w="4749840"/>
                <a:gridCol w="1650960"/>
                <a:gridCol w="1676520"/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HC P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Statistical Intensity Forecast Mode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, Ka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Sisk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 of SHIPS Using Passive Microwave Imager 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c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Sisk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n Pacific Ocean Heat Content Estimates for SHIPS Forecas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, DeM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Mainel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ed Development of Tropical Cyclone Wind Probability Produ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ing Tropical Cyclone Wind Radii Utilizing an Empirical Inland Wind Decay Mod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on of Consensus TC Track Forecast Error and Correctors to Improve Consensus TC Track Forecas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r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and Implementation of NHC/JHT Products in ATC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9B0-05AF-4825-BE97-2379A1A69A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52680" y="689040"/>
            <a:ext cx="5386680" cy="4087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s of Implemented 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ound Projec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41316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28800" y="990720"/>
            <a:ext cx="2209680" cy="219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1523880" cy="1712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791320" y="3886200"/>
            <a:ext cx="3352680" cy="2513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rcRect l="28870" t="0" r="16388" b="0"/>
          <a:stretch/>
        </p:blipFill>
        <p:spPr>
          <a:xfrm>
            <a:off x="2971800" y="2400480"/>
            <a:ext cx="3156120" cy="44575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0" y="3335400"/>
            <a:ext cx="3505320" cy="3522600"/>
            <a:chOff x="0" y="3335400"/>
            <a:chExt cx="3505320" cy="3522600"/>
          </a:xfrm>
        </p:grpSpPr>
        <p:pic>
          <p:nvPicPr>
            <p:cNvPr id="67" name="" descr=""/>
            <p:cNvPicPr/>
            <p:nvPr/>
          </p:nvPicPr>
          <p:blipFill>
            <a:blip r:embed="rId7"/>
            <a:srcRect l="0" t="5220" r="1945" b="4008"/>
            <a:stretch/>
          </p:blipFill>
          <p:spPr>
            <a:xfrm>
              <a:off x="0" y="3335400"/>
              <a:ext cx="3505320" cy="35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984960" y="4302000"/>
              <a:ext cx="727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D04-3EFE-41BC-BD25-0BE11CD866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5191" t="19378" r="5530" b="13501"/>
          <a:stretch/>
        </p:blipFill>
        <p:spPr>
          <a:xfrm>
            <a:off x="0" y="609480"/>
            <a:ext cx="6095880" cy="3875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4320" y="22860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ographic Speed-up Mapping T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3827520"/>
            <a:ext cx="4647960" cy="3030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86400" y="533520"/>
            <a:ext cx="3505320" cy="31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753-97D9-4B7F-BB3B-9E64EA429E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und (2007-2009) project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(28) Review completed in January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HT &amp; TPC Director sent recommendations (10 projects) to NOAA in early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WRP sent notifications to PIs on March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for NOAA PIs transferred in Jun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for Navy and private PIs transferred in late Sept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056-42A5-4206-A864-98EE8369A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7:33:53Z</dcterms:created>
  <dc:creator> </dc:creator>
  <dc:description/>
  <dc:language>en-US</dc:language>
  <cp:lastModifiedBy>Jiann-Gwo Jiing</cp:lastModifiedBy>
  <dcterms:modified xsi:type="dcterms:W3CDTF">2008-03-05T19:13:27Z</dcterms:modified>
  <cp:revision>622</cp:revision>
  <dc:subject/>
  <dc:title>Slide 1</dc:title>
</cp:coreProperties>
</file>