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A86-73C9-4613-BF4E-AD17629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B25-1D34-4788-B947-68FA74A2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A10-B371-40D4-B6EA-4BB4A542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79F-80A5-486D-8C5B-3880267A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E1A-68CE-4EC0-B041-FA266CD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7A3-3DBE-4F02-A301-0742AEFD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786-11BE-4EFB-B8D9-5FBF75F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A2C-6BA2-4A6E-B634-4FCDCF19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F36-A274-4C6F-85E3-A1648D2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96B-D1C8-4FEF-BB1F-65AFD3D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CDF-2763-4A77-9952-AE6DB42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451-DF6E-423D-8739-3DAF9A6A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BA3A-5A7C-4EC8-82C7-43DB3B72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date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oint Hurricane Testbed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077320" y="0"/>
            <a:ext cx="1066320" cy="1066320"/>
            <a:chOff x="8077320" y="0"/>
            <a:chExt cx="1066320" cy="1066320"/>
          </a:xfrm>
        </p:grpSpPr>
        <p:sp>
          <p:nvSpPr>
            <p:cNvPr id="43" name=""/>
            <p:cNvSpPr/>
            <p:nvPr/>
          </p:nvSpPr>
          <p:spPr>
            <a:xfrm>
              <a:off x="8077320" y="13680"/>
              <a:ext cx="1064520" cy="103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79480" y="319320"/>
              <a:ext cx="1064160" cy="747000"/>
            </a:xfrm>
            <a:custGeom>
              <a:avLst/>
              <a:gdLst/>
              <a:ahLst/>
              <a:rect l="l" t="t" r="r" b="b"/>
              <a:pathLst>
                <a:path w="1055" h="739">
                  <a:moveTo>
                    <a:pt x="1011" y="0"/>
                  </a:moveTo>
                  <a:lnTo>
                    <a:pt x="1016" y="12"/>
                  </a:lnTo>
                  <a:lnTo>
                    <a:pt x="1021" y="25"/>
                  </a:lnTo>
                  <a:lnTo>
                    <a:pt x="1026" y="38"/>
                  </a:lnTo>
                  <a:lnTo>
                    <a:pt x="1030" y="51"/>
                  </a:lnTo>
                  <a:lnTo>
                    <a:pt x="1033" y="64"/>
                  </a:lnTo>
                  <a:lnTo>
                    <a:pt x="1037" y="77"/>
                  </a:lnTo>
                  <a:lnTo>
                    <a:pt x="1041" y="89"/>
                  </a:lnTo>
                  <a:lnTo>
                    <a:pt x="1044" y="102"/>
                  </a:lnTo>
                  <a:lnTo>
                    <a:pt x="1046" y="116"/>
                  </a:lnTo>
                  <a:lnTo>
                    <a:pt x="1048" y="129"/>
                  </a:lnTo>
                  <a:lnTo>
                    <a:pt x="1050" y="143"/>
                  </a:lnTo>
                  <a:lnTo>
                    <a:pt x="1051" y="156"/>
                  </a:lnTo>
                  <a:lnTo>
                    <a:pt x="1054" y="170"/>
                  </a:lnTo>
                  <a:lnTo>
                    <a:pt x="1054" y="184"/>
                  </a:lnTo>
                  <a:lnTo>
                    <a:pt x="1055" y="198"/>
                  </a:lnTo>
                  <a:lnTo>
                    <a:pt x="1055" y="212"/>
                  </a:lnTo>
                  <a:lnTo>
                    <a:pt x="1051" y="266"/>
                  </a:lnTo>
                  <a:lnTo>
                    <a:pt x="1044" y="318"/>
                  </a:lnTo>
                  <a:lnTo>
                    <a:pt x="1031" y="369"/>
                  </a:lnTo>
                  <a:lnTo>
                    <a:pt x="1014" y="417"/>
                  </a:lnTo>
                  <a:lnTo>
                    <a:pt x="991" y="463"/>
                  </a:lnTo>
                  <a:lnTo>
                    <a:pt x="964" y="506"/>
                  </a:lnTo>
                  <a:lnTo>
                    <a:pt x="934" y="547"/>
                  </a:lnTo>
                  <a:lnTo>
                    <a:pt x="901" y="585"/>
                  </a:lnTo>
                  <a:lnTo>
                    <a:pt x="863" y="618"/>
                  </a:lnTo>
                  <a:lnTo>
                    <a:pt x="822" y="648"/>
                  </a:lnTo>
                  <a:lnTo>
                    <a:pt x="779" y="675"/>
                  </a:lnTo>
                  <a:lnTo>
                    <a:pt x="733" y="698"/>
                  </a:lnTo>
                  <a:lnTo>
                    <a:pt x="685" y="715"/>
                  </a:lnTo>
                  <a:lnTo>
                    <a:pt x="634" y="728"/>
                  </a:lnTo>
                  <a:lnTo>
                    <a:pt x="582" y="735"/>
                  </a:lnTo>
                  <a:lnTo>
                    <a:pt x="528" y="739"/>
                  </a:lnTo>
                  <a:lnTo>
                    <a:pt x="474" y="735"/>
                  </a:lnTo>
                  <a:lnTo>
                    <a:pt x="422" y="728"/>
                  </a:lnTo>
                  <a:lnTo>
                    <a:pt x="371" y="715"/>
                  </a:lnTo>
                  <a:lnTo>
                    <a:pt x="323" y="698"/>
                  </a:lnTo>
                  <a:lnTo>
                    <a:pt x="276" y="675"/>
                  </a:lnTo>
                  <a:lnTo>
                    <a:pt x="233" y="648"/>
                  </a:lnTo>
                  <a:lnTo>
                    <a:pt x="193" y="618"/>
                  </a:lnTo>
                  <a:lnTo>
                    <a:pt x="155" y="585"/>
                  </a:lnTo>
                  <a:lnTo>
                    <a:pt x="121" y="547"/>
                  </a:lnTo>
                  <a:lnTo>
                    <a:pt x="90" y="506"/>
                  </a:lnTo>
                  <a:lnTo>
                    <a:pt x="64" y="463"/>
                  </a:lnTo>
                  <a:lnTo>
                    <a:pt x="42" y="417"/>
                  </a:lnTo>
                  <a:lnTo>
                    <a:pt x="24" y="369"/>
                  </a:lnTo>
                  <a:lnTo>
                    <a:pt x="11" y="318"/>
                  </a:lnTo>
                  <a:lnTo>
                    <a:pt x="3" y="266"/>
                  </a:lnTo>
                  <a:lnTo>
                    <a:pt x="0" y="212"/>
                  </a:lnTo>
                  <a:lnTo>
                    <a:pt x="0" y="193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6" y="137"/>
                  </a:lnTo>
                  <a:lnTo>
                    <a:pt x="9" y="118"/>
                  </a:lnTo>
                  <a:lnTo>
                    <a:pt x="12" y="100"/>
                  </a:lnTo>
                  <a:lnTo>
                    <a:pt x="16" y="82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8" y="67"/>
                  </a:lnTo>
                  <a:lnTo>
                    <a:pt x="37" y="70"/>
                  </a:lnTo>
                  <a:lnTo>
                    <a:pt x="47" y="74"/>
                  </a:lnTo>
                  <a:lnTo>
                    <a:pt x="59" y="81"/>
                  </a:lnTo>
                  <a:lnTo>
                    <a:pt x="74" y="89"/>
                  </a:lnTo>
                  <a:lnTo>
                    <a:pt x="89" y="100"/>
                  </a:lnTo>
                  <a:lnTo>
                    <a:pt x="105" y="114"/>
                  </a:lnTo>
                  <a:lnTo>
                    <a:pt x="108" y="117"/>
                  </a:lnTo>
                  <a:lnTo>
                    <a:pt x="114" y="125"/>
                  </a:lnTo>
                  <a:lnTo>
                    <a:pt x="125" y="138"/>
                  </a:lnTo>
                  <a:lnTo>
                    <a:pt x="139" y="154"/>
                  </a:lnTo>
                  <a:lnTo>
                    <a:pt x="156" y="173"/>
                  </a:lnTo>
                  <a:lnTo>
                    <a:pt x="178" y="194"/>
                  </a:lnTo>
                  <a:lnTo>
                    <a:pt x="202" y="216"/>
                  </a:lnTo>
                  <a:lnTo>
                    <a:pt x="229" y="240"/>
                  </a:lnTo>
                  <a:lnTo>
                    <a:pt x="259" y="262"/>
                  </a:lnTo>
                  <a:lnTo>
                    <a:pt x="291" y="285"/>
                  </a:lnTo>
                  <a:lnTo>
                    <a:pt x="326" y="305"/>
                  </a:lnTo>
                  <a:lnTo>
                    <a:pt x="362" y="323"/>
                  </a:lnTo>
                  <a:lnTo>
                    <a:pt x="401" y="337"/>
                  </a:lnTo>
                  <a:lnTo>
                    <a:pt x="441" y="347"/>
                  </a:lnTo>
                  <a:lnTo>
                    <a:pt x="482" y="353"/>
                  </a:lnTo>
                  <a:lnTo>
                    <a:pt x="525" y="353"/>
                  </a:lnTo>
                  <a:lnTo>
                    <a:pt x="521" y="355"/>
                  </a:lnTo>
                  <a:lnTo>
                    <a:pt x="511" y="362"/>
                  </a:lnTo>
                  <a:lnTo>
                    <a:pt x="495" y="372"/>
                  </a:lnTo>
                  <a:lnTo>
                    <a:pt x="473" y="384"/>
                  </a:lnTo>
                  <a:lnTo>
                    <a:pt x="448" y="396"/>
                  </a:lnTo>
                  <a:lnTo>
                    <a:pt x="422" y="405"/>
                  </a:lnTo>
                  <a:lnTo>
                    <a:pt x="392" y="414"/>
                  </a:lnTo>
                  <a:lnTo>
                    <a:pt x="363" y="417"/>
                  </a:lnTo>
                  <a:lnTo>
                    <a:pt x="365" y="418"/>
                  </a:lnTo>
                  <a:lnTo>
                    <a:pt x="366" y="420"/>
                  </a:lnTo>
                  <a:lnTo>
                    <a:pt x="369" y="423"/>
                  </a:lnTo>
                  <a:lnTo>
                    <a:pt x="373" y="426"/>
                  </a:lnTo>
                  <a:lnTo>
                    <a:pt x="380" y="430"/>
                  </a:lnTo>
                  <a:lnTo>
                    <a:pt x="388" y="433"/>
                  </a:lnTo>
                  <a:lnTo>
                    <a:pt x="399" y="437"/>
                  </a:lnTo>
                  <a:lnTo>
                    <a:pt x="412" y="438"/>
                  </a:lnTo>
                  <a:lnTo>
                    <a:pt x="427" y="439"/>
                  </a:lnTo>
                  <a:lnTo>
                    <a:pt x="445" y="438"/>
                  </a:lnTo>
                  <a:lnTo>
                    <a:pt x="466" y="435"/>
                  </a:lnTo>
                  <a:lnTo>
                    <a:pt x="489" y="430"/>
                  </a:lnTo>
                  <a:lnTo>
                    <a:pt x="516" y="421"/>
                  </a:lnTo>
                  <a:lnTo>
                    <a:pt x="547" y="411"/>
                  </a:lnTo>
                  <a:lnTo>
                    <a:pt x="581" y="397"/>
                  </a:lnTo>
                  <a:lnTo>
                    <a:pt x="618" y="378"/>
                  </a:lnTo>
                  <a:lnTo>
                    <a:pt x="646" y="366"/>
                  </a:lnTo>
                  <a:lnTo>
                    <a:pt x="674" y="356"/>
                  </a:lnTo>
                  <a:lnTo>
                    <a:pt x="701" y="347"/>
                  </a:lnTo>
                  <a:lnTo>
                    <a:pt x="727" y="342"/>
                  </a:lnTo>
                  <a:lnTo>
                    <a:pt x="748" y="337"/>
                  </a:lnTo>
                  <a:lnTo>
                    <a:pt x="765" y="334"/>
                  </a:lnTo>
                  <a:lnTo>
                    <a:pt x="776" y="332"/>
                  </a:lnTo>
                  <a:lnTo>
                    <a:pt x="779" y="331"/>
                  </a:lnTo>
                  <a:lnTo>
                    <a:pt x="761" y="323"/>
                  </a:lnTo>
                  <a:lnTo>
                    <a:pt x="742" y="316"/>
                  </a:lnTo>
                  <a:lnTo>
                    <a:pt x="720" y="312"/>
                  </a:lnTo>
                  <a:lnTo>
                    <a:pt x="701" y="310"/>
                  </a:lnTo>
                  <a:lnTo>
                    <a:pt x="683" y="309"/>
                  </a:lnTo>
                  <a:lnTo>
                    <a:pt x="668" y="309"/>
                  </a:lnTo>
                  <a:lnTo>
                    <a:pt x="658" y="309"/>
                  </a:lnTo>
                  <a:lnTo>
                    <a:pt x="655" y="309"/>
                  </a:lnTo>
                  <a:lnTo>
                    <a:pt x="685" y="299"/>
                  </a:lnTo>
                  <a:lnTo>
                    <a:pt x="716" y="284"/>
                  </a:lnTo>
                  <a:lnTo>
                    <a:pt x="747" y="266"/>
                  </a:lnTo>
                  <a:lnTo>
                    <a:pt x="777" y="244"/>
                  </a:lnTo>
                  <a:lnTo>
                    <a:pt x="807" y="219"/>
                  </a:lnTo>
                  <a:lnTo>
                    <a:pt x="838" y="194"/>
                  </a:lnTo>
                  <a:lnTo>
                    <a:pt x="865" y="167"/>
                  </a:lnTo>
                  <a:lnTo>
                    <a:pt x="892" y="140"/>
                  </a:lnTo>
                  <a:lnTo>
                    <a:pt x="917" y="113"/>
                  </a:lnTo>
                  <a:lnTo>
                    <a:pt x="940" y="87"/>
                  </a:lnTo>
                  <a:lnTo>
                    <a:pt x="960" y="64"/>
                  </a:lnTo>
                  <a:lnTo>
                    <a:pt x="977" y="43"/>
                  </a:lnTo>
                  <a:lnTo>
                    <a:pt x="991" y="25"/>
                  </a:lnTo>
                  <a:lnTo>
                    <a:pt x="1002" y="12"/>
                  </a:lnTo>
                  <a:lnTo>
                    <a:pt x="1008" y="3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0200" y="0"/>
              <a:ext cx="868320" cy="633240"/>
            </a:xfrm>
            <a:custGeom>
              <a:avLst/>
              <a:gdLst/>
              <a:ahLst/>
              <a:rect l="l" t="t" r="r" b="b"/>
              <a:pathLst>
                <a:path w="860" h="626">
                  <a:moveTo>
                    <a:pt x="0" y="233"/>
                  </a:moveTo>
                  <a:lnTo>
                    <a:pt x="19" y="208"/>
                  </a:lnTo>
                  <a:lnTo>
                    <a:pt x="39" y="183"/>
                  </a:lnTo>
                  <a:lnTo>
                    <a:pt x="61" y="159"/>
                  </a:lnTo>
                  <a:lnTo>
                    <a:pt x="83" y="138"/>
                  </a:lnTo>
                  <a:lnTo>
                    <a:pt x="107" y="117"/>
                  </a:lnTo>
                  <a:lnTo>
                    <a:pt x="133" y="98"/>
                  </a:lnTo>
                  <a:lnTo>
                    <a:pt x="160" y="80"/>
                  </a:lnTo>
                  <a:lnTo>
                    <a:pt x="186" y="64"/>
                  </a:lnTo>
                  <a:lnTo>
                    <a:pt x="215" y="50"/>
                  </a:lnTo>
                  <a:lnTo>
                    <a:pt x="244" y="37"/>
                  </a:lnTo>
                  <a:lnTo>
                    <a:pt x="275" y="26"/>
                  </a:lnTo>
                  <a:lnTo>
                    <a:pt x="306" y="16"/>
                  </a:lnTo>
                  <a:lnTo>
                    <a:pt x="338" y="10"/>
                  </a:lnTo>
                  <a:lnTo>
                    <a:pt x="371" y="5"/>
                  </a:lnTo>
                  <a:lnTo>
                    <a:pt x="405" y="1"/>
                  </a:lnTo>
                  <a:lnTo>
                    <a:pt x="438" y="0"/>
                  </a:lnTo>
                  <a:lnTo>
                    <a:pt x="470" y="1"/>
                  </a:lnTo>
                  <a:lnTo>
                    <a:pt x="501" y="5"/>
                  </a:lnTo>
                  <a:lnTo>
                    <a:pt x="533" y="9"/>
                  </a:lnTo>
                  <a:lnTo>
                    <a:pt x="564" y="15"/>
                  </a:lnTo>
                  <a:lnTo>
                    <a:pt x="594" y="24"/>
                  </a:lnTo>
                  <a:lnTo>
                    <a:pt x="623" y="34"/>
                  </a:lnTo>
                  <a:lnTo>
                    <a:pt x="651" y="45"/>
                  </a:lnTo>
                  <a:lnTo>
                    <a:pt x="679" y="58"/>
                  </a:lnTo>
                  <a:lnTo>
                    <a:pt x="705" y="73"/>
                  </a:lnTo>
                  <a:lnTo>
                    <a:pt x="730" y="89"/>
                  </a:lnTo>
                  <a:lnTo>
                    <a:pt x="755" y="107"/>
                  </a:lnTo>
                  <a:lnTo>
                    <a:pt x="779" y="125"/>
                  </a:lnTo>
                  <a:lnTo>
                    <a:pt x="800" y="145"/>
                  </a:lnTo>
                  <a:lnTo>
                    <a:pt x="822" y="167"/>
                  </a:lnTo>
                  <a:lnTo>
                    <a:pt x="842" y="189"/>
                  </a:lnTo>
                  <a:lnTo>
                    <a:pt x="860" y="213"/>
                  </a:lnTo>
                  <a:lnTo>
                    <a:pt x="855" y="215"/>
                  </a:lnTo>
                  <a:lnTo>
                    <a:pt x="841" y="222"/>
                  </a:lnTo>
                  <a:lnTo>
                    <a:pt x="821" y="232"/>
                  </a:lnTo>
                  <a:lnTo>
                    <a:pt x="797" y="250"/>
                  </a:lnTo>
                  <a:lnTo>
                    <a:pt x="771" y="272"/>
                  </a:lnTo>
                  <a:lnTo>
                    <a:pt x="745" y="302"/>
                  </a:lnTo>
                  <a:lnTo>
                    <a:pt x="724" y="339"/>
                  </a:lnTo>
                  <a:lnTo>
                    <a:pt x="707" y="384"/>
                  </a:lnTo>
                  <a:lnTo>
                    <a:pt x="706" y="386"/>
                  </a:lnTo>
                  <a:lnTo>
                    <a:pt x="703" y="394"/>
                  </a:lnTo>
                  <a:lnTo>
                    <a:pt x="700" y="404"/>
                  </a:lnTo>
                  <a:lnTo>
                    <a:pt x="695" y="418"/>
                  </a:lnTo>
                  <a:lnTo>
                    <a:pt x="688" y="436"/>
                  </a:lnTo>
                  <a:lnTo>
                    <a:pt x="680" y="455"/>
                  </a:lnTo>
                  <a:lnTo>
                    <a:pt x="669" y="475"/>
                  </a:lnTo>
                  <a:lnTo>
                    <a:pt x="656" y="497"/>
                  </a:lnTo>
                  <a:lnTo>
                    <a:pt x="642" y="518"/>
                  </a:lnTo>
                  <a:lnTo>
                    <a:pt x="625" y="540"/>
                  </a:lnTo>
                  <a:lnTo>
                    <a:pt x="606" y="560"/>
                  </a:lnTo>
                  <a:lnTo>
                    <a:pt x="585" y="578"/>
                  </a:lnTo>
                  <a:lnTo>
                    <a:pt x="560" y="596"/>
                  </a:lnTo>
                  <a:lnTo>
                    <a:pt x="535" y="609"/>
                  </a:lnTo>
                  <a:lnTo>
                    <a:pt x="506" y="619"/>
                  </a:lnTo>
                  <a:lnTo>
                    <a:pt x="473" y="625"/>
                  </a:lnTo>
                  <a:lnTo>
                    <a:pt x="472" y="625"/>
                  </a:lnTo>
                  <a:lnTo>
                    <a:pt x="468" y="626"/>
                  </a:lnTo>
                  <a:lnTo>
                    <a:pt x="462" y="626"/>
                  </a:lnTo>
                  <a:lnTo>
                    <a:pt x="453" y="625"/>
                  </a:lnTo>
                  <a:lnTo>
                    <a:pt x="442" y="624"/>
                  </a:lnTo>
                  <a:lnTo>
                    <a:pt x="429" y="620"/>
                  </a:lnTo>
                  <a:lnTo>
                    <a:pt x="413" y="615"/>
                  </a:lnTo>
                  <a:lnTo>
                    <a:pt x="396" y="606"/>
                  </a:lnTo>
                  <a:lnTo>
                    <a:pt x="377" y="596"/>
                  </a:lnTo>
                  <a:lnTo>
                    <a:pt x="355" y="582"/>
                  </a:lnTo>
                  <a:lnTo>
                    <a:pt x="333" y="563"/>
                  </a:lnTo>
                  <a:lnTo>
                    <a:pt x="308" y="541"/>
                  </a:lnTo>
                  <a:lnTo>
                    <a:pt x="281" y="514"/>
                  </a:lnTo>
                  <a:lnTo>
                    <a:pt x="253" y="482"/>
                  </a:lnTo>
                  <a:lnTo>
                    <a:pt x="223" y="443"/>
                  </a:lnTo>
                  <a:lnTo>
                    <a:pt x="192" y="399"/>
                  </a:lnTo>
                  <a:lnTo>
                    <a:pt x="172" y="372"/>
                  </a:lnTo>
                  <a:lnTo>
                    <a:pt x="154" y="347"/>
                  </a:lnTo>
                  <a:lnTo>
                    <a:pt x="136" y="327"/>
                  </a:lnTo>
                  <a:lnTo>
                    <a:pt x="119" y="309"/>
                  </a:lnTo>
                  <a:lnTo>
                    <a:pt x="103" y="293"/>
                  </a:lnTo>
                  <a:lnTo>
                    <a:pt x="86" y="279"/>
                  </a:lnTo>
                  <a:lnTo>
                    <a:pt x="71" y="268"/>
                  </a:lnTo>
                  <a:lnTo>
                    <a:pt x="57" y="258"/>
                  </a:lnTo>
                  <a:lnTo>
                    <a:pt x="46" y="251"/>
                  </a:lnTo>
                  <a:lnTo>
                    <a:pt x="34" y="245"/>
                  </a:lnTo>
                  <a:lnTo>
                    <a:pt x="24" y="241"/>
                  </a:lnTo>
                  <a:lnTo>
                    <a:pt x="15" y="238"/>
                  </a:lnTo>
                  <a:lnTo>
                    <a:pt x="9" y="236"/>
                  </a:lnTo>
                  <a:lnTo>
                    <a:pt x="5" y="235"/>
                  </a:lnTo>
                  <a:lnTo>
                    <a:pt x="2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98440" y="216000"/>
              <a:ext cx="91080" cy="13320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9" y="27"/>
                  </a:moveTo>
                  <a:lnTo>
                    <a:pt x="59" y="133"/>
                  </a:lnTo>
                  <a:lnTo>
                    <a:pt x="90" y="133"/>
                  </a:lnTo>
                  <a:lnTo>
                    <a:pt x="90" y="26"/>
                  </a:lnTo>
                  <a:lnTo>
                    <a:pt x="89" y="22"/>
                  </a:lnTo>
                  <a:lnTo>
                    <a:pt x="86" y="13"/>
                  </a:lnTo>
                  <a:lnTo>
                    <a:pt x="79" y="4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28" y="133"/>
                  </a:lnTo>
                  <a:lnTo>
                    <a:pt x="28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13640" y="212400"/>
              <a:ext cx="88560" cy="13716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67" y="135"/>
                  </a:moveTo>
                  <a:lnTo>
                    <a:pt x="75" y="133"/>
                  </a:lnTo>
                  <a:lnTo>
                    <a:pt x="82" y="129"/>
                  </a:lnTo>
                  <a:lnTo>
                    <a:pt x="86" y="121"/>
                  </a:lnTo>
                  <a:lnTo>
                    <a:pt x="88" y="113"/>
                  </a:lnTo>
                  <a:lnTo>
                    <a:pt x="88" y="22"/>
                  </a:lnTo>
                  <a:lnTo>
                    <a:pt x="86" y="14"/>
                  </a:lnTo>
                  <a:lnTo>
                    <a:pt x="82" y="6"/>
                  </a:lnTo>
                  <a:lnTo>
                    <a:pt x="75" y="2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113"/>
                  </a:lnTo>
                  <a:lnTo>
                    <a:pt x="2" y="121"/>
                  </a:lnTo>
                  <a:lnTo>
                    <a:pt x="6" y="129"/>
                  </a:lnTo>
                  <a:lnTo>
                    <a:pt x="13" y="133"/>
                  </a:lnTo>
                  <a:lnTo>
                    <a:pt x="22" y="135"/>
                  </a:lnTo>
                  <a:lnTo>
                    <a:pt x="67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38120" y="234360"/>
              <a:ext cx="37800" cy="94680"/>
            </a:xfrm>
            <a:custGeom>
              <a:avLst/>
              <a:gdLst/>
              <a:ahLst/>
              <a:rect l="l" t="t" r="r" b="b"/>
              <a:pathLst>
                <a:path w="37" h="94">
                  <a:moveTo>
                    <a:pt x="32" y="94"/>
                  </a:moveTo>
                  <a:lnTo>
                    <a:pt x="34" y="94"/>
                  </a:lnTo>
                  <a:lnTo>
                    <a:pt x="36" y="93"/>
                  </a:lnTo>
                  <a:lnTo>
                    <a:pt x="37" y="91"/>
                  </a:lnTo>
                  <a:lnTo>
                    <a:pt x="37" y="9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2" y="93"/>
                  </a:lnTo>
                  <a:lnTo>
                    <a:pt x="3" y="94"/>
                  </a:lnTo>
                  <a:lnTo>
                    <a:pt x="5" y="94"/>
                  </a:lnTo>
                  <a:lnTo>
                    <a:pt x="32" y="9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24520" y="214200"/>
              <a:ext cx="88560" cy="13536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34"/>
                  </a:moveTo>
                  <a:lnTo>
                    <a:pt x="89" y="23"/>
                  </a:lnTo>
                  <a:lnTo>
                    <a:pt x="87" y="14"/>
                  </a:lnTo>
                  <a:lnTo>
                    <a:pt x="83" y="6"/>
                  </a:lnTo>
                  <a:lnTo>
                    <a:pt x="75" y="2"/>
                  </a:lnTo>
                  <a:lnTo>
                    <a:pt x="66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134"/>
                  </a:lnTo>
                  <a:lnTo>
                    <a:pt x="26" y="134"/>
                  </a:lnTo>
                  <a:lnTo>
                    <a:pt x="26" y="77"/>
                  </a:lnTo>
                  <a:lnTo>
                    <a:pt x="61" y="77"/>
                  </a:lnTo>
                  <a:lnTo>
                    <a:pt x="61" y="134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49000" y="236520"/>
              <a:ext cx="38160" cy="338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34"/>
                  </a:moveTo>
                  <a:lnTo>
                    <a:pt x="38" y="4"/>
                  </a:lnTo>
                  <a:lnTo>
                    <a:pt x="38" y="3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40080" y="216000"/>
              <a:ext cx="903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34"/>
                  </a:moveTo>
                  <a:lnTo>
                    <a:pt x="89" y="23"/>
                  </a:lnTo>
                  <a:lnTo>
                    <a:pt x="87" y="14"/>
                  </a:lnTo>
                  <a:lnTo>
                    <a:pt x="83" y="7"/>
                  </a:lnTo>
                  <a:lnTo>
                    <a:pt x="75" y="2"/>
                  </a:lnTo>
                  <a:lnTo>
                    <a:pt x="66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134"/>
                  </a:lnTo>
                  <a:lnTo>
                    <a:pt x="26" y="134"/>
                  </a:lnTo>
                  <a:lnTo>
                    <a:pt x="26" y="79"/>
                  </a:lnTo>
                  <a:lnTo>
                    <a:pt x="62" y="79"/>
                  </a:lnTo>
                  <a:lnTo>
                    <a:pt x="62" y="134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66360" y="238320"/>
              <a:ext cx="38160" cy="342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34"/>
                  </a:moveTo>
                  <a:lnTo>
                    <a:pt x="38" y="4"/>
                  </a:lnTo>
                  <a:lnTo>
                    <a:pt x="38" y="3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5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659040"/>
            <a:ext cx="761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ann-Gwo Jiing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5943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1120" y="6099120"/>
            <a:ext cx="218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 March 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440" y="4952880"/>
            <a:ext cx="298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irley Mu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/H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5840" y="4923000"/>
            <a:ext cx="298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is Land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04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th Round (FY07) Recommended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$1.0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715000"/>
            <a:ext cx="335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vate Companies 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117880"/>
            <a:ext cx="1676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AA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981080"/>
            <a:ext cx="1676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and Private Universities 3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105520"/>
            <a:ext cx="175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vy (NPS, NRL)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88620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SA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1114" t="6856" r="18891" b="7465"/>
          <a:stretch/>
        </p:blipFill>
        <p:spPr>
          <a:xfrm>
            <a:off x="2362320" y="1828800"/>
            <a:ext cx="4572000" cy="423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8920" y="4224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4320" y="58244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6680" y="3005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5840" y="60530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0280" y="26240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3840" y="1905120"/>
          <a:ext cx="8886960" cy="4395600"/>
        </p:xfrm>
        <a:graphic>
          <a:graphicData uri="http://schemas.openxmlformats.org/drawingml/2006/table">
            <a:tbl>
              <a:tblPr/>
              <a:tblGrid>
                <a:gridCol w="6962760"/>
                <a:gridCol w="1924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al intensity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/wave dis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343080"/>
            <a:ext cx="9144000" cy="1562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th Round Recommended Projec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cus Ar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relativ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very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C contributes ~0.5 FTE/yr o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HT IT facilitator assists i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EP/EMC and NCO also contrib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840" y="5867280"/>
            <a:ext cx="537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al Centers are not funded for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4600" y="563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ighlights of projects implemented in 20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-763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 Speed Probabilities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umulative &amp; incre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PC is generating wind prob. for all TCs in the NH east of 9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ucts are available in NWS N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111744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cumulative: 0-120 hours in 12-hour interv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SU (CIRA)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670572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4876920" cy="359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343400" y="762120"/>
            <a:ext cx="4800600" cy="3537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51440" y="6308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mperature Anom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83400" y="11653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adient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6019920"/>
            <a:ext cx="41306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MSU estimated are operationally generated for TCs all over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Have We Accomplishe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1-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projects funded (round 1-3)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rojects completed (round 1&amp;2)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ne was denied funding after first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rojects accepted for implementation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completed projects not accepted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completed projects pending further evaluation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mber of projects implemented –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9436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dicated NHC &amp; JHT staff, and close collaborations between the P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HC forecasters and support staff is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urr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 f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1 – $1,287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2 – $1,21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3 – $1,35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4 – $1,243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5 – $1,16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6 – $1,058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7 – $1,035K (Preliminari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minishing JHT Infrastructure fund from $250K for FY02 to $100K for FY07 – barely enough for a JHT meteorologist/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tiv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tor’s discretion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resources for transition and implementation at the N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609480"/>
            <a:ext cx="838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nhc.noaa.gov/jh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-76320"/>
            <a:ext cx="89154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00" y="76212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dministrative as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meteorologist/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Gaynor (O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management and adm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staff (implement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activities 2006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 of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3-05)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, fund, and testing of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5-07)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tion for the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7-09)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have we accomp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use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What does it take to support the J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Staff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iann-Gwo Jiing (JHT Dir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son Krautkramer/Jose Salazar (JHT IT specia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rley Murillo (JHT Admin. As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is Landsea (JHT Admin. As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Steering Committ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Rappaport (TPC – 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l Frank (Penn State – 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Gamache (Hurricane Research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ff Hawkins (Naval Research Labora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omi Surgi (Environmental Modeling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Fukada (Joint Typhoon Warning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gh Willoughby (Florida International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Gaynor (US Weather Research Progr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C/Technical Support  Branch I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 of the 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FY03-04)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l evaluation of 12  two-year projects (Jan.-Mar.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 for implementation by TPC and EMC Directors (early April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accepted, 3 pending, one not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of 8 accepted two-year projects completed (spring/summer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out of 15 second round projects, 10 accepted and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486400" y="5486400"/>
            <a:ext cx="2133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sis forecasting  assessments (Har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66880"/>
            <a:ext cx="2133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k Uncertainty Estimates  (Goer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743200"/>
            <a:ext cx="23623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DL/URI Hurricane Model upgrades (Bender; G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0" y="6095880"/>
            <a:ext cx="23004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day CLIPER – NWP, ENP, ATL (Ab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743200"/>
            <a:ext cx="1981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ili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pid intensification - ENP (Kap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2nd Round Implemente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80880" y="83808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2209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14688" t="0" r="0" b="0"/>
          <a:stretch/>
        </p:blipFill>
        <p:spPr>
          <a:xfrm>
            <a:off x="5562720" y="3733920"/>
            <a:ext cx="1828800" cy="1647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581280" y="6032520"/>
            <a:ext cx="190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IPS &amp; Wind Probabilities (DeMaria/Kna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600200" y="358128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334120"/>
            <a:ext cx="20574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in-CLIPER &amp; rainfall verification (Rog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657600" y="4191120"/>
            <a:ext cx="177156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85800" y="838080"/>
            <a:ext cx="129528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057400" y="10666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09680" y="2895480"/>
            <a:ext cx="17528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ner Core SSTs (C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7543800" y="838080"/>
            <a:ext cx="3429000" cy="185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4038480" y="838080"/>
            <a:ext cx="1752840" cy="17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0" y="40384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276960"/>
            <a:ext cx="1752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ppler Winds (Gam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5638680" y="838080"/>
            <a:ext cx="1752840" cy="176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371600"/>
            <a:ext cx="2133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ced Objective Dvorak Technique (Kossin/Vel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438280"/>
            <a:ext cx="23623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rricane-Weather Research Forecasting Model (Tule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334120"/>
            <a:ext cx="20574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ed Observations (Majumdar/Ab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2nd Round Projects - P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838080"/>
            <a:ext cx="3263400" cy="2742840"/>
            <a:chOff x="152280" y="838080"/>
            <a:chExt cx="3263400" cy="2742840"/>
          </a:xfrm>
        </p:grpSpPr>
        <p:grpSp>
          <p:nvGrpSpPr>
            <p:cNvPr id="89" name=""/>
            <p:cNvGrpSpPr/>
            <p:nvPr/>
          </p:nvGrpSpPr>
          <p:grpSpPr>
            <a:xfrm>
              <a:off x="152280" y="838080"/>
              <a:ext cx="3263400" cy="2742840"/>
              <a:chOff x="152280" y="838080"/>
              <a:chExt cx="3263400" cy="27428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52280" y="873360"/>
                <a:ext cx="2923920" cy="2707560"/>
                <a:chOff x="152280" y="873360"/>
                <a:chExt cx="2923920" cy="27075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52280" y="909000"/>
                  <a:ext cx="2923920" cy="2671920"/>
                  <a:chOff x="152280" y="909000"/>
                  <a:chExt cx="2923920" cy="2671920"/>
                </a:xfrm>
              </p:grpSpPr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09000"/>
                    <a:ext cx="2923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187200" y="909000"/>
                    <a:ext cx="1401120" cy="113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Hurricane Isabe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 Sept 200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0:15UTC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"/>
                <p:cNvSpPr/>
                <p:nvPr/>
              </p:nvSpPr>
              <p:spPr>
                <a:xfrm>
                  <a:off x="617400" y="2298240"/>
                  <a:ext cx="67680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40200" y="873360"/>
                  <a:ext cx="67680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8080" y="2298240"/>
                  <a:ext cx="67644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1525320" y="838080"/>
                <a:ext cx="18295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Spiral Analy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56560" y="2228760"/>
                <a:ext cx="19591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Combo Analy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9280" y="2228760"/>
                <a:ext cx="93492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Times New Roman"/>
                  </a:rPr>
                  <a:t>Ring Analys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52280" y="1051560"/>
              <a:ext cx="1480320" cy="74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3316320" cy="2624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571500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5480" t="4738" r="8677" b="0"/>
          <a:stretch/>
        </p:blipFill>
        <p:spPr>
          <a:xfrm>
            <a:off x="4267080" y="4770360"/>
            <a:ext cx="243864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00400" y="388620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, fund, and testing of 15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(FY05-06) year two projec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year funding proposal review (Ju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year projects began (April and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quested $1.265M, $1.15M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-time testing and evaluation during 2006 hurricane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71720" y="112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108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Third Round (FY05-06) Project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066680"/>
          <a:ext cx="8305920" cy="5823000"/>
        </p:xfrm>
        <a:graphic>
          <a:graphicData uri="http://schemas.openxmlformats.org/drawingml/2006/table">
            <a:tbl>
              <a:tblPr/>
              <a:tblGrid>
                <a:gridCol w="5562720"/>
                <a:gridCol w="106668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Third Round (FY05-06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066680"/>
          <a:ext cx="8305920" cy="4756320"/>
        </p:xfrm>
        <a:graphic>
          <a:graphicData uri="http://schemas.openxmlformats.org/drawingml/2006/table">
            <a:tbl>
              <a:tblPr/>
              <a:tblGrid>
                <a:gridCol w="5410440"/>
                <a:gridCol w="121896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89440" y="605628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tion for the 4th Rou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Y07-08) 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ment of Federal Funding Opportunity (June 1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3 Letters of Intent received (July 3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 encouraged to submit a full proposal (S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 Full proposals reviewed (Dec. 2006-Feb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C &amp; JHT Directors recommend for funding (Late Feb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Projects begin (spring 2007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7680" y="624852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-8 months for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3:50Z</dcterms:created>
  <dc:creator> </dc:creator>
  <dc:description/>
  <dc:language>en-US</dc:language>
  <cp:lastModifiedBy>Administrator</cp:lastModifiedBy>
  <dcterms:modified xsi:type="dcterms:W3CDTF">2007-03-07T17:50:45Z</dcterms:modified>
  <cp:revision>95</cp:revision>
  <dc:subject/>
  <dc:title>Funding for FY06 Projects</dc:title>
</cp:coreProperties>
</file>