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.wmf" ContentType="image/x-wmf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787-1567-4677-8CD6-DFE482AD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95B-4362-46F7-B0D2-9118900C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CCB-1CC6-45A9-8531-898ABF20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239-64A2-48D7-82D1-82E44E9B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832-2C4B-41A7-ADEF-A5A1B0F5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884-ACA8-4347-B08B-D94D765B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BC9-938E-4261-8F9A-DCF719A1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C8EF-E33E-495A-828B-A41DFEBF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F2B-B58E-4886-A524-A147D42D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39B-80EA-480B-B08F-D28F1CC5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8EA-C2D3-4F9F-950B-06802494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223-9CC0-4456-979E-7F5C8D5F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7A73-AC39-44F4-8E08-89071C4E1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image" Target="../media/image10.wmf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932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pdate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Joint Hurricane Testbed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077320" y="0"/>
            <a:ext cx="1066320" cy="1066320"/>
            <a:chOff x="8077320" y="0"/>
            <a:chExt cx="1066320" cy="1066320"/>
          </a:xfrm>
        </p:grpSpPr>
        <p:sp>
          <p:nvSpPr>
            <p:cNvPr id="43" name=""/>
            <p:cNvSpPr/>
            <p:nvPr/>
          </p:nvSpPr>
          <p:spPr>
            <a:xfrm>
              <a:off x="8077320" y="13680"/>
              <a:ext cx="1064520" cy="103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079480" y="319320"/>
              <a:ext cx="1064160" cy="747000"/>
            </a:xfrm>
            <a:custGeom>
              <a:avLst/>
              <a:gdLst/>
              <a:ahLst/>
              <a:rect l="l" t="t" r="r" b="b"/>
              <a:pathLst>
                <a:path w="1055" h="739">
                  <a:moveTo>
                    <a:pt x="1011" y="0"/>
                  </a:moveTo>
                  <a:lnTo>
                    <a:pt x="1016" y="12"/>
                  </a:lnTo>
                  <a:lnTo>
                    <a:pt x="1021" y="25"/>
                  </a:lnTo>
                  <a:lnTo>
                    <a:pt x="1026" y="38"/>
                  </a:lnTo>
                  <a:lnTo>
                    <a:pt x="1030" y="51"/>
                  </a:lnTo>
                  <a:lnTo>
                    <a:pt x="1033" y="64"/>
                  </a:lnTo>
                  <a:lnTo>
                    <a:pt x="1037" y="77"/>
                  </a:lnTo>
                  <a:lnTo>
                    <a:pt x="1041" y="89"/>
                  </a:lnTo>
                  <a:lnTo>
                    <a:pt x="1044" y="102"/>
                  </a:lnTo>
                  <a:lnTo>
                    <a:pt x="1046" y="116"/>
                  </a:lnTo>
                  <a:lnTo>
                    <a:pt x="1048" y="129"/>
                  </a:lnTo>
                  <a:lnTo>
                    <a:pt x="1050" y="143"/>
                  </a:lnTo>
                  <a:lnTo>
                    <a:pt x="1051" y="156"/>
                  </a:lnTo>
                  <a:lnTo>
                    <a:pt x="1054" y="170"/>
                  </a:lnTo>
                  <a:lnTo>
                    <a:pt x="1054" y="184"/>
                  </a:lnTo>
                  <a:lnTo>
                    <a:pt x="1055" y="198"/>
                  </a:lnTo>
                  <a:lnTo>
                    <a:pt x="1055" y="212"/>
                  </a:lnTo>
                  <a:lnTo>
                    <a:pt x="1051" y="266"/>
                  </a:lnTo>
                  <a:lnTo>
                    <a:pt x="1044" y="318"/>
                  </a:lnTo>
                  <a:lnTo>
                    <a:pt x="1031" y="369"/>
                  </a:lnTo>
                  <a:lnTo>
                    <a:pt x="1014" y="417"/>
                  </a:lnTo>
                  <a:lnTo>
                    <a:pt x="991" y="463"/>
                  </a:lnTo>
                  <a:lnTo>
                    <a:pt x="964" y="506"/>
                  </a:lnTo>
                  <a:lnTo>
                    <a:pt x="934" y="547"/>
                  </a:lnTo>
                  <a:lnTo>
                    <a:pt x="901" y="585"/>
                  </a:lnTo>
                  <a:lnTo>
                    <a:pt x="863" y="618"/>
                  </a:lnTo>
                  <a:lnTo>
                    <a:pt x="822" y="648"/>
                  </a:lnTo>
                  <a:lnTo>
                    <a:pt x="779" y="675"/>
                  </a:lnTo>
                  <a:lnTo>
                    <a:pt x="733" y="698"/>
                  </a:lnTo>
                  <a:lnTo>
                    <a:pt x="685" y="715"/>
                  </a:lnTo>
                  <a:lnTo>
                    <a:pt x="634" y="728"/>
                  </a:lnTo>
                  <a:lnTo>
                    <a:pt x="582" y="735"/>
                  </a:lnTo>
                  <a:lnTo>
                    <a:pt x="528" y="739"/>
                  </a:lnTo>
                  <a:lnTo>
                    <a:pt x="474" y="735"/>
                  </a:lnTo>
                  <a:lnTo>
                    <a:pt x="422" y="728"/>
                  </a:lnTo>
                  <a:lnTo>
                    <a:pt x="371" y="715"/>
                  </a:lnTo>
                  <a:lnTo>
                    <a:pt x="323" y="698"/>
                  </a:lnTo>
                  <a:lnTo>
                    <a:pt x="276" y="675"/>
                  </a:lnTo>
                  <a:lnTo>
                    <a:pt x="233" y="648"/>
                  </a:lnTo>
                  <a:lnTo>
                    <a:pt x="193" y="618"/>
                  </a:lnTo>
                  <a:lnTo>
                    <a:pt x="155" y="585"/>
                  </a:lnTo>
                  <a:lnTo>
                    <a:pt x="121" y="547"/>
                  </a:lnTo>
                  <a:lnTo>
                    <a:pt x="90" y="506"/>
                  </a:lnTo>
                  <a:lnTo>
                    <a:pt x="64" y="463"/>
                  </a:lnTo>
                  <a:lnTo>
                    <a:pt x="42" y="417"/>
                  </a:lnTo>
                  <a:lnTo>
                    <a:pt x="24" y="369"/>
                  </a:lnTo>
                  <a:lnTo>
                    <a:pt x="11" y="318"/>
                  </a:lnTo>
                  <a:lnTo>
                    <a:pt x="3" y="266"/>
                  </a:lnTo>
                  <a:lnTo>
                    <a:pt x="0" y="212"/>
                  </a:lnTo>
                  <a:lnTo>
                    <a:pt x="0" y="193"/>
                  </a:lnTo>
                  <a:lnTo>
                    <a:pt x="1" y="173"/>
                  </a:lnTo>
                  <a:lnTo>
                    <a:pt x="3" y="155"/>
                  </a:lnTo>
                  <a:lnTo>
                    <a:pt x="6" y="137"/>
                  </a:lnTo>
                  <a:lnTo>
                    <a:pt x="9" y="118"/>
                  </a:lnTo>
                  <a:lnTo>
                    <a:pt x="12" y="100"/>
                  </a:lnTo>
                  <a:lnTo>
                    <a:pt x="16" y="82"/>
                  </a:lnTo>
                  <a:lnTo>
                    <a:pt x="22" y="65"/>
                  </a:lnTo>
                  <a:lnTo>
                    <a:pt x="24" y="65"/>
                  </a:lnTo>
                  <a:lnTo>
                    <a:pt x="28" y="67"/>
                  </a:lnTo>
                  <a:lnTo>
                    <a:pt x="37" y="70"/>
                  </a:lnTo>
                  <a:lnTo>
                    <a:pt x="47" y="74"/>
                  </a:lnTo>
                  <a:lnTo>
                    <a:pt x="59" y="81"/>
                  </a:lnTo>
                  <a:lnTo>
                    <a:pt x="74" y="89"/>
                  </a:lnTo>
                  <a:lnTo>
                    <a:pt x="89" y="100"/>
                  </a:lnTo>
                  <a:lnTo>
                    <a:pt x="105" y="114"/>
                  </a:lnTo>
                  <a:lnTo>
                    <a:pt x="108" y="117"/>
                  </a:lnTo>
                  <a:lnTo>
                    <a:pt x="114" y="125"/>
                  </a:lnTo>
                  <a:lnTo>
                    <a:pt x="125" y="138"/>
                  </a:lnTo>
                  <a:lnTo>
                    <a:pt x="139" y="154"/>
                  </a:lnTo>
                  <a:lnTo>
                    <a:pt x="156" y="173"/>
                  </a:lnTo>
                  <a:lnTo>
                    <a:pt x="178" y="194"/>
                  </a:lnTo>
                  <a:lnTo>
                    <a:pt x="202" y="216"/>
                  </a:lnTo>
                  <a:lnTo>
                    <a:pt x="229" y="240"/>
                  </a:lnTo>
                  <a:lnTo>
                    <a:pt x="259" y="262"/>
                  </a:lnTo>
                  <a:lnTo>
                    <a:pt x="291" y="285"/>
                  </a:lnTo>
                  <a:lnTo>
                    <a:pt x="326" y="305"/>
                  </a:lnTo>
                  <a:lnTo>
                    <a:pt x="362" y="323"/>
                  </a:lnTo>
                  <a:lnTo>
                    <a:pt x="401" y="337"/>
                  </a:lnTo>
                  <a:lnTo>
                    <a:pt x="441" y="347"/>
                  </a:lnTo>
                  <a:lnTo>
                    <a:pt x="482" y="353"/>
                  </a:lnTo>
                  <a:lnTo>
                    <a:pt x="525" y="353"/>
                  </a:lnTo>
                  <a:lnTo>
                    <a:pt x="521" y="355"/>
                  </a:lnTo>
                  <a:lnTo>
                    <a:pt x="511" y="362"/>
                  </a:lnTo>
                  <a:lnTo>
                    <a:pt x="495" y="372"/>
                  </a:lnTo>
                  <a:lnTo>
                    <a:pt x="473" y="384"/>
                  </a:lnTo>
                  <a:lnTo>
                    <a:pt x="448" y="396"/>
                  </a:lnTo>
                  <a:lnTo>
                    <a:pt x="422" y="405"/>
                  </a:lnTo>
                  <a:lnTo>
                    <a:pt x="392" y="414"/>
                  </a:lnTo>
                  <a:lnTo>
                    <a:pt x="363" y="417"/>
                  </a:lnTo>
                  <a:lnTo>
                    <a:pt x="365" y="418"/>
                  </a:lnTo>
                  <a:lnTo>
                    <a:pt x="366" y="420"/>
                  </a:lnTo>
                  <a:lnTo>
                    <a:pt x="369" y="423"/>
                  </a:lnTo>
                  <a:lnTo>
                    <a:pt x="373" y="426"/>
                  </a:lnTo>
                  <a:lnTo>
                    <a:pt x="380" y="430"/>
                  </a:lnTo>
                  <a:lnTo>
                    <a:pt x="388" y="433"/>
                  </a:lnTo>
                  <a:lnTo>
                    <a:pt x="399" y="437"/>
                  </a:lnTo>
                  <a:lnTo>
                    <a:pt x="412" y="438"/>
                  </a:lnTo>
                  <a:lnTo>
                    <a:pt x="427" y="439"/>
                  </a:lnTo>
                  <a:lnTo>
                    <a:pt x="445" y="438"/>
                  </a:lnTo>
                  <a:lnTo>
                    <a:pt x="466" y="435"/>
                  </a:lnTo>
                  <a:lnTo>
                    <a:pt x="489" y="430"/>
                  </a:lnTo>
                  <a:lnTo>
                    <a:pt x="516" y="421"/>
                  </a:lnTo>
                  <a:lnTo>
                    <a:pt x="547" y="411"/>
                  </a:lnTo>
                  <a:lnTo>
                    <a:pt x="581" y="397"/>
                  </a:lnTo>
                  <a:lnTo>
                    <a:pt x="618" y="378"/>
                  </a:lnTo>
                  <a:lnTo>
                    <a:pt x="646" y="366"/>
                  </a:lnTo>
                  <a:lnTo>
                    <a:pt x="674" y="356"/>
                  </a:lnTo>
                  <a:lnTo>
                    <a:pt x="701" y="347"/>
                  </a:lnTo>
                  <a:lnTo>
                    <a:pt x="727" y="342"/>
                  </a:lnTo>
                  <a:lnTo>
                    <a:pt x="748" y="337"/>
                  </a:lnTo>
                  <a:lnTo>
                    <a:pt x="765" y="334"/>
                  </a:lnTo>
                  <a:lnTo>
                    <a:pt x="776" y="332"/>
                  </a:lnTo>
                  <a:lnTo>
                    <a:pt x="779" y="331"/>
                  </a:lnTo>
                  <a:lnTo>
                    <a:pt x="761" y="323"/>
                  </a:lnTo>
                  <a:lnTo>
                    <a:pt x="742" y="316"/>
                  </a:lnTo>
                  <a:lnTo>
                    <a:pt x="720" y="312"/>
                  </a:lnTo>
                  <a:lnTo>
                    <a:pt x="701" y="310"/>
                  </a:lnTo>
                  <a:lnTo>
                    <a:pt x="683" y="309"/>
                  </a:lnTo>
                  <a:lnTo>
                    <a:pt x="668" y="309"/>
                  </a:lnTo>
                  <a:lnTo>
                    <a:pt x="658" y="309"/>
                  </a:lnTo>
                  <a:lnTo>
                    <a:pt x="655" y="309"/>
                  </a:lnTo>
                  <a:lnTo>
                    <a:pt x="685" y="299"/>
                  </a:lnTo>
                  <a:lnTo>
                    <a:pt x="716" y="284"/>
                  </a:lnTo>
                  <a:lnTo>
                    <a:pt x="747" y="266"/>
                  </a:lnTo>
                  <a:lnTo>
                    <a:pt x="777" y="244"/>
                  </a:lnTo>
                  <a:lnTo>
                    <a:pt x="807" y="219"/>
                  </a:lnTo>
                  <a:lnTo>
                    <a:pt x="838" y="194"/>
                  </a:lnTo>
                  <a:lnTo>
                    <a:pt x="865" y="167"/>
                  </a:lnTo>
                  <a:lnTo>
                    <a:pt x="892" y="140"/>
                  </a:lnTo>
                  <a:lnTo>
                    <a:pt x="917" y="113"/>
                  </a:lnTo>
                  <a:lnTo>
                    <a:pt x="940" y="87"/>
                  </a:lnTo>
                  <a:lnTo>
                    <a:pt x="960" y="64"/>
                  </a:lnTo>
                  <a:lnTo>
                    <a:pt x="977" y="43"/>
                  </a:lnTo>
                  <a:lnTo>
                    <a:pt x="991" y="25"/>
                  </a:lnTo>
                  <a:lnTo>
                    <a:pt x="1002" y="12"/>
                  </a:lnTo>
                  <a:lnTo>
                    <a:pt x="1008" y="3"/>
                  </a:lnTo>
                  <a:lnTo>
                    <a:pt x="101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170200" y="0"/>
              <a:ext cx="868320" cy="633240"/>
            </a:xfrm>
            <a:custGeom>
              <a:avLst/>
              <a:gdLst/>
              <a:ahLst/>
              <a:rect l="l" t="t" r="r" b="b"/>
              <a:pathLst>
                <a:path w="860" h="626">
                  <a:moveTo>
                    <a:pt x="0" y="233"/>
                  </a:moveTo>
                  <a:lnTo>
                    <a:pt x="19" y="208"/>
                  </a:lnTo>
                  <a:lnTo>
                    <a:pt x="39" y="183"/>
                  </a:lnTo>
                  <a:lnTo>
                    <a:pt x="61" y="159"/>
                  </a:lnTo>
                  <a:lnTo>
                    <a:pt x="83" y="138"/>
                  </a:lnTo>
                  <a:lnTo>
                    <a:pt x="107" y="117"/>
                  </a:lnTo>
                  <a:lnTo>
                    <a:pt x="133" y="98"/>
                  </a:lnTo>
                  <a:lnTo>
                    <a:pt x="160" y="80"/>
                  </a:lnTo>
                  <a:lnTo>
                    <a:pt x="186" y="64"/>
                  </a:lnTo>
                  <a:lnTo>
                    <a:pt x="215" y="50"/>
                  </a:lnTo>
                  <a:lnTo>
                    <a:pt x="244" y="37"/>
                  </a:lnTo>
                  <a:lnTo>
                    <a:pt x="275" y="26"/>
                  </a:lnTo>
                  <a:lnTo>
                    <a:pt x="306" y="16"/>
                  </a:lnTo>
                  <a:lnTo>
                    <a:pt x="338" y="10"/>
                  </a:lnTo>
                  <a:lnTo>
                    <a:pt x="371" y="5"/>
                  </a:lnTo>
                  <a:lnTo>
                    <a:pt x="405" y="1"/>
                  </a:lnTo>
                  <a:lnTo>
                    <a:pt x="438" y="0"/>
                  </a:lnTo>
                  <a:lnTo>
                    <a:pt x="470" y="1"/>
                  </a:lnTo>
                  <a:lnTo>
                    <a:pt x="501" y="5"/>
                  </a:lnTo>
                  <a:lnTo>
                    <a:pt x="533" y="9"/>
                  </a:lnTo>
                  <a:lnTo>
                    <a:pt x="564" y="15"/>
                  </a:lnTo>
                  <a:lnTo>
                    <a:pt x="594" y="24"/>
                  </a:lnTo>
                  <a:lnTo>
                    <a:pt x="623" y="34"/>
                  </a:lnTo>
                  <a:lnTo>
                    <a:pt x="651" y="45"/>
                  </a:lnTo>
                  <a:lnTo>
                    <a:pt x="679" y="58"/>
                  </a:lnTo>
                  <a:lnTo>
                    <a:pt x="705" y="73"/>
                  </a:lnTo>
                  <a:lnTo>
                    <a:pt x="730" y="89"/>
                  </a:lnTo>
                  <a:lnTo>
                    <a:pt x="755" y="107"/>
                  </a:lnTo>
                  <a:lnTo>
                    <a:pt x="779" y="125"/>
                  </a:lnTo>
                  <a:lnTo>
                    <a:pt x="800" y="145"/>
                  </a:lnTo>
                  <a:lnTo>
                    <a:pt x="822" y="167"/>
                  </a:lnTo>
                  <a:lnTo>
                    <a:pt x="842" y="189"/>
                  </a:lnTo>
                  <a:lnTo>
                    <a:pt x="860" y="213"/>
                  </a:lnTo>
                  <a:lnTo>
                    <a:pt x="855" y="215"/>
                  </a:lnTo>
                  <a:lnTo>
                    <a:pt x="841" y="222"/>
                  </a:lnTo>
                  <a:lnTo>
                    <a:pt x="821" y="232"/>
                  </a:lnTo>
                  <a:lnTo>
                    <a:pt x="797" y="250"/>
                  </a:lnTo>
                  <a:lnTo>
                    <a:pt x="771" y="272"/>
                  </a:lnTo>
                  <a:lnTo>
                    <a:pt x="745" y="302"/>
                  </a:lnTo>
                  <a:lnTo>
                    <a:pt x="724" y="339"/>
                  </a:lnTo>
                  <a:lnTo>
                    <a:pt x="707" y="384"/>
                  </a:lnTo>
                  <a:lnTo>
                    <a:pt x="706" y="386"/>
                  </a:lnTo>
                  <a:lnTo>
                    <a:pt x="703" y="394"/>
                  </a:lnTo>
                  <a:lnTo>
                    <a:pt x="700" y="404"/>
                  </a:lnTo>
                  <a:lnTo>
                    <a:pt x="695" y="418"/>
                  </a:lnTo>
                  <a:lnTo>
                    <a:pt x="688" y="436"/>
                  </a:lnTo>
                  <a:lnTo>
                    <a:pt x="680" y="455"/>
                  </a:lnTo>
                  <a:lnTo>
                    <a:pt x="669" y="475"/>
                  </a:lnTo>
                  <a:lnTo>
                    <a:pt x="656" y="497"/>
                  </a:lnTo>
                  <a:lnTo>
                    <a:pt x="642" y="518"/>
                  </a:lnTo>
                  <a:lnTo>
                    <a:pt x="625" y="540"/>
                  </a:lnTo>
                  <a:lnTo>
                    <a:pt x="606" y="560"/>
                  </a:lnTo>
                  <a:lnTo>
                    <a:pt x="585" y="578"/>
                  </a:lnTo>
                  <a:lnTo>
                    <a:pt x="560" y="596"/>
                  </a:lnTo>
                  <a:lnTo>
                    <a:pt x="535" y="609"/>
                  </a:lnTo>
                  <a:lnTo>
                    <a:pt x="506" y="619"/>
                  </a:lnTo>
                  <a:lnTo>
                    <a:pt x="473" y="625"/>
                  </a:lnTo>
                  <a:lnTo>
                    <a:pt x="472" y="625"/>
                  </a:lnTo>
                  <a:lnTo>
                    <a:pt x="468" y="626"/>
                  </a:lnTo>
                  <a:lnTo>
                    <a:pt x="462" y="626"/>
                  </a:lnTo>
                  <a:lnTo>
                    <a:pt x="453" y="625"/>
                  </a:lnTo>
                  <a:lnTo>
                    <a:pt x="442" y="624"/>
                  </a:lnTo>
                  <a:lnTo>
                    <a:pt x="429" y="620"/>
                  </a:lnTo>
                  <a:lnTo>
                    <a:pt x="413" y="615"/>
                  </a:lnTo>
                  <a:lnTo>
                    <a:pt x="396" y="606"/>
                  </a:lnTo>
                  <a:lnTo>
                    <a:pt x="377" y="596"/>
                  </a:lnTo>
                  <a:lnTo>
                    <a:pt x="355" y="582"/>
                  </a:lnTo>
                  <a:lnTo>
                    <a:pt x="333" y="563"/>
                  </a:lnTo>
                  <a:lnTo>
                    <a:pt x="308" y="541"/>
                  </a:lnTo>
                  <a:lnTo>
                    <a:pt x="281" y="514"/>
                  </a:lnTo>
                  <a:lnTo>
                    <a:pt x="253" y="482"/>
                  </a:lnTo>
                  <a:lnTo>
                    <a:pt x="223" y="443"/>
                  </a:lnTo>
                  <a:lnTo>
                    <a:pt x="192" y="399"/>
                  </a:lnTo>
                  <a:lnTo>
                    <a:pt x="172" y="372"/>
                  </a:lnTo>
                  <a:lnTo>
                    <a:pt x="154" y="347"/>
                  </a:lnTo>
                  <a:lnTo>
                    <a:pt x="136" y="327"/>
                  </a:lnTo>
                  <a:lnTo>
                    <a:pt x="119" y="309"/>
                  </a:lnTo>
                  <a:lnTo>
                    <a:pt x="103" y="293"/>
                  </a:lnTo>
                  <a:lnTo>
                    <a:pt x="86" y="279"/>
                  </a:lnTo>
                  <a:lnTo>
                    <a:pt x="71" y="268"/>
                  </a:lnTo>
                  <a:lnTo>
                    <a:pt x="57" y="258"/>
                  </a:lnTo>
                  <a:lnTo>
                    <a:pt x="46" y="251"/>
                  </a:lnTo>
                  <a:lnTo>
                    <a:pt x="34" y="245"/>
                  </a:lnTo>
                  <a:lnTo>
                    <a:pt x="24" y="241"/>
                  </a:lnTo>
                  <a:lnTo>
                    <a:pt x="15" y="238"/>
                  </a:lnTo>
                  <a:lnTo>
                    <a:pt x="9" y="236"/>
                  </a:lnTo>
                  <a:lnTo>
                    <a:pt x="5" y="235"/>
                  </a:lnTo>
                  <a:lnTo>
                    <a:pt x="2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98440" y="216000"/>
              <a:ext cx="91080" cy="13320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59" y="27"/>
                  </a:moveTo>
                  <a:lnTo>
                    <a:pt x="59" y="133"/>
                  </a:lnTo>
                  <a:lnTo>
                    <a:pt x="90" y="133"/>
                  </a:lnTo>
                  <a:lnTo>
                    <a:pt x="90" y="26"/>
                  </a:lnTo>
                  <a:lnTo>
                    <a:pt x="89" y="22"/>
                  </a:lnTo>
                  <a:lnTo>
                    <a:pt x="86" y="13"/>
                  </a:lnTo>
                  <a:lnTo>
                    <a:pt x="79" y="4"/>
                  </a:lnTo>
                  <a:lnTo>
                    <a:pt x="68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28" y="133"/>
                  </a:lnTo>
                  <a:lnTo>
                    <a:pt x="28" y="27"/>
                  </a:lnTo>
                  <a:lnTo>
                    <a:pt x="29" y="25"/>
                  </a:lnTo>
                  <a:lnTo>
                    <a:pt x="30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8" y="24"/>
                  </a:lnTo>
                  <a:lnTo>
                    <a:pt x="59" y="26"/>
                  </a:lnTo>
                  <a:lnTo>
                    <a:pt x="59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513640" y="212400"/>
              <a:ext cx="88560" cy="137160"/>
            </a:xfrm>
            <a:custGeom>
              <a:avLst/>
              <a:gdLst/>
              <a:ahLst/>
              <a:rect l="l" t="t" r="r" b="b"/>
              <a:pathLst>
                <a:path w="88" h="135">
                  <a:moveTo>
                    <a:pt x="67" y="135"/>
                  </a:moveTo>
                  <a:lnTo>
                    <a:pt x="75" y="133"/>
                  </a:lnTo>
                  <a:lnTo>
                    <a:pt x="82" y="129"/>
                  </a:lnTo>
                  <a:lnTo>
                    <a:pt x="86" y="121"/>
                  </a:lnTo>
                  <a:lnTo>
                    <a:pt x="88" y="113"/>
                  </a:lnTo>
                  <a:lnTo>
                    <a:pt x="88" y="22"/>
                  </a:lnTo>
                  <a:lnTo>
                    <a:pt x="86" y="14"/>
                  </a:lnTo>
                  <a:lnTo>
                    <a:pt x="82" y="6"/>
                  </a:lnTo>
                  <a:lnTo>
                    <a:pt x="75" y="2"/>
                  </a:lnTo>
                  <a:lnTo>
                    <a:pt x="67" y="0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0" y="113"/>
                  </a:lnTo>
                  <a:lnTo>
                    <a:pt x="2" y="121"/>
                  </a:lnTo>
                  <a:lnTo>
                    <a:pt x="6" y="129"/>
                  </a:lnTo>
                  <a:lnTo>
                    <a:pt x="13" y="133"/>
                  </a:lnTo>
                  <a:lnTo>
                    <a:pt x="22" y="135"/>
                  </a:lnTo>
                  <a:lnTo>
                    <a:pt x="67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538120" y="234360"/>
              <a:ext cx="37800" cy="94680"/>
            </a:xfrm>
            <a:custGeom>
              <a:avLst/>
              <a:gdLst/>
              <a:ahLst/>
              <a:rect l="l" t="t" r="r" b="b"/>
              <a:pathLst>
                <a:path w="37" h="94">
                  <a:moveTo>
                    <a:pt x="32" y="94"/>
                  </a:moveTo>
                  <a:lnTo>
                    <a:pt x="34" y="94"/>
                  </a:lnTo>
                  <a:lnTo>
                    <a:pt x="36" y="93"/>
                  </a:lnTo>
                  <a:lnTo>
                    <a:pt x="37" y="91"/>
                  </a:lnTo>
                  <a:lnTo>
                    <a:pt x="37" y="9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0"/>
                  </a:lnTo>
                  <a:lnTo>
                    <a:pt x="1" y="91"/>
                  </a:lnTo>
                  <a:lnTo>
                    <a:pt x="2" y="93"/>
                  </a:lnTo>
                  <a:lnTo>
                    <a:pt x="3" y="94"/>
                  </a:lnTo>
                  <a:lnTo>
                    <a:pt x="5" y="94"/>
                  </a:lnTo>
                  <a:lnTo>
                    <a:pt x="32" y="9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624520" y="214200"/>
              <a:ext cx="88560" cy="13536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89" y="134"/>
                  </a:moveTo>
                  <a:lnTo>
                    <a:pt x="89" y="23"/>
                  </a:lnTo>
                  <a:lnTo>
                    <a:pt x="87" y="14"/>
                  </a:lnTo>
                  <a:lnTo>
                    <a:pt x="83" y="6"/>
                  </a:lnTo>
                  <a:lnTo>
                    <a:pt x="75" y="2"/>
                  </a:lnTo>
                  <a:lnTo>
                    <a:pt x="66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6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0" y="134"/>
                  </a:lnTo>
                  <a:lnTo>
                    <a:pt x="26" y="134"/>
                  </a:lnTo>
                  <a:lnTo>
                    <a:pt x="26" y="77"/>
                  </a:lnTo>
                  <a:lnTo>
                    <a:pt x="61" y="77"/>
                  </a:lnTo>
                  <a:lnTo>
                    <a:pt x="61" y="134"/>
                  </a:lnTo>
                  <a:lnTo>
                    <a:pt x="89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49000" y="236520"/>
              <a:ext cx="38160" cy="338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34"/>
                  </a:moveTo>
                  <a:lnTo>
                    <a:pt x="38" y="4"/>
                  </a:lnTo>
                  <a:lnTo>
                    <a:pt x="38" y="3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4"/>
                  </a:lnTo>
                  <a:lnTo>
                    <a:pt x="38" y="3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40080" y="216000"/>
              <a:ext cx="90360" cy="13572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89" y="134"/>
                  </a:moveTo>
                  <a:lnTo>
                    <a:pt x="89" y="23"/>
                  </a:lnTo>
                  <a:lnTo>
                    <a:pt x="87" y="14"/>
                  </a:lnTo>
                  <a:lnTo>
                    <a:pt x="83" y="7"/>
                  </a:lnTo>
                  <a:lnTo>
                    <a:pt x="75" y="2"/>
                  </a:lnTo>
                  <a:lnTo>
                    <a:pt x="66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0" y="134"/>
                  </a:lnTo>
                  <a:lnTo>
                    <a:pt x="26" y="134"/>
                  </a:lnTo>
                  <a:lnTo>
                    <a:pt x="26" y="79"/>
                  </a:lnTo>
                  <a:lnTo>
                    <a:pt x="62" y="79"/>
                  </a:lnTo>
                  <a:lnTo>
                    <a:pt x="62" y="134"/>
                  </a:lnTo>
                  <a:lnTo>
                    <a:pt x="89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766360" y="238320"/>
              <a:ext cx="38160" cy="342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34"/>
                  </a:moveTo>
                  <a:lnTo>
                    <a:pt x="38" y="4"/>
                  </a:lnTo>
                  <a:lnTo>
                    <a:pt x="38" y="3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4"/>
                  </a:lnTo>
                  <a:lnTo>
                    <a:pt x="38" y="3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52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3659040"/>
            <a:ext cx="7619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iann-Gwo Jiing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Directo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5943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1120" y="6099120"/>
            <a:ext cx="2180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 March 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440" y="4952880"/>
            <a:ext cx="2980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irley Mur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AA/H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5840" y="4923000"/>
            <a:ext cx="2980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ris Land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304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4th Round (FY07) Recommended Funding Distribution</a:t>
            </a:r>
            <a:br>
              <a:rPr sz="40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tal $1.04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5715000"/>
            <a:ext cx="3352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ivate Companies 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117880"/>
            <a:ext cx="1676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AA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1981080"/>
            <a:ext cx="1676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te and Private Universities 3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5105520"/>
            <a:ext cx="1752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vy (NPS, NRL) 1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3886200"/>
            <a:ext cx="1676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SA 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21114" t="6856" r="18891" b="7465"/>
          <a:stretch/>
        </p:blipFill>
        <p:spPr>
          <a:xfrm>
            <a:off x="2362320" y="1828800"/>
            <a:ext cx="4572000" cy="4233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48920" y="42242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34320" y="58244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6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6680" y="30052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6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5840" y="60530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10280" y="26240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23840" y="1905120"/>
          <a:ext cx="8886960" cy="4395600"/>
        </p:xfrm>
        <a:graphic>
          <a:graphicData uri="http://schemas.openxmlformats.org/drawingml/2006/table">
            <a:tbl>
              <a:tblPr/>
              <a:tblGrid>
                <a:gridCol w="6962760"/>
                <a:gridCol w="1924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imary Area of 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 of Proj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ments to dynamical models (for track, intensity, and precipitation forecas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cal intensity forecast guid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bserved data, assimi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pical cyclone structure/wind/wave distrib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k forecast guid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perational enviro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0" y="343080"/>
            <a:ext cx="9144000" cy="1562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th Round Recommended Projec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cus Are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Implement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relative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very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HC contributes ~0.5 FTE/yr on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HT IT facilitator assists in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EP/EMC and NCO also contribu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840" y="5867280"/>
            <a:ext cx="537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al Centers are not funded for thi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84600" y="563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ighlights of projects implemented in 20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-7632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nd Speed Probabilities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umulative &amp; increme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58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PC is generating wind prob. for all TCs in the NH east of 90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ducts are available in NWS ND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111744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d each forecast cycle for all active tropical cyclones in the Atlantic, eastern/central Pacific, and western Pacific bas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d on 2-D grids with 0.5-degree lat/lon sp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probabilities of the surface wind speed equal to or exceeding 34, 50, and 64 kt over specified time intervals (cumulative: 0-120 hours in 12-hour interv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ividual interval or cumulative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ded, graphical, and text products can be p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SU (CIRA)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6705720" cy="5638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38480" y="3505320"/>
            <a:ext cx="4876920" cy="3592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343400" y="762120"/>
            <a:ext cx="4800600" cy="3537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951440" y="630864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emperature Anom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83400" y="116532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radient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6019920"/>
            <a:ext cx="41306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MSU estimated are operationally generated for TCs all over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Have We Accomplishe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01-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projects funded (round 1-3) –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projects completed (round 1&amp;2) –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One was denied funding after first 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projects accepted for implementation –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completed projects not accepted –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completed projects pending further evaluation –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umber of projects implemented – 1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5943600"/>
            <a:ext cx="784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dicated NHC &amp; JHT staff, and close collaborations between the PI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HC forecasters and support staff is the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urr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nts for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Y01 – $1,287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Y02 – $1,213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Y03 – $1,350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Y04 – $1,243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Y05 – $1,163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Y06 – $1,058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Y07 – $1,035K (Preliminari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minishing JHT Infrastructure fund from $250K for FY02 to $100K for FY07 – barely enough for a JHT meteorologist/progr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ministrativ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rector’s discretion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ed resources for transition and implementation at the N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609480"/>
            <a:ext cx="8382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nhc.noaa.gov/jht/index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0"/>
            <a:ext cx="8458200" cy="609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4000" cy="5892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-76320"/>
            <a:ext cx="8915400" cy="1090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600" y="762120"/>
            <a:ext cx="8991720" cy="4952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administrative as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son Krautkramer, JHT meteorologist/progra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principal investigators and other funded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Gaynor (O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/NHC  management and admi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 and EMC forecaster and technical points of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/TSB staff (implementatio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activities 2006-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 of the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ound (03-05)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, fund, and testing of the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ound (05-07)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ation for the 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ound (07-09)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have we accomp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llenges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9051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Quse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What does it take to support the J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HT Staff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iann-Gwo Jiing (JHT Dir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son Krautkramer/Jose Salazar (JHT IT specia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irley Murillo (JHT Admin. Ass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is Landsea (JHT Admin. Ass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HT Steering Committ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 Rappaport (TPC – Co-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l Frank (Penn State – Co-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hn Gamache (Hurricane Research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ff Hawkins (Naval Research Labora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omi Surgi (Environmental Modeling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 Fukada (Joint Typhoon Warning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gh Willoughby (Florida International Univer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Gaynor (US Weather Research Progr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PC and EMC forecaster and technical points of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PC/Technical Support  Branch IT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ajor Activities 2006-2007 :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lusion of the 2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roun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FY03-04)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l evaluation of 12  two-year projects (Jan.-Mar.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sions for implementation by TPC and EMC Directors (early April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accepted, 3 pending, one not accep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ementation of 8 accepted two-year projects completed (spring/summer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all, out of 15 second round projects, 10 accepted and imple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486400" y="5486400"/>
            <a:ext cx="2133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esis forecasting  assessments (Har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666880"/>
            <a:ext cx="2133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ck Uncertainty Estimates  (Goer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743200"/>
            <a:ext cx="23623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FDL/URI Hurricane Model upgrades (Bender; Gi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0" y="6095880"/>
            <a:ext cx="23004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 day CLIPER – NWP, ENP, ATL (Aber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2743200"/>
            <a:ext cx="198108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abilit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pid intensification - ENP (Kapl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2384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2nd Round Implemented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380880" y="838080"/>
            <a:ext cx="1523880" cy="1712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543800" y="4038480"/>
            <a:ext cx="2209680" cy="1822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rcRect l="14688" t="0" r="0" b="0"/>
          <a:stretch/>
        </p:blipFill>
        <p:spPr>
          <a:xfrm>
            <a:off x="5562720" y="3733920"/>
            <a:ext cx="1828800" cy="1647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3581280" y="6032520"/>
            <a:ext cx="19051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IPS &amp; Wind Probabilities (DeMaria/Knaf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600200" y="358128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334120"/>
            <a:ext cx="20574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in-CLIPER &amp; rainfall verification (Rog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657600" y="4191120"/>
            <a:ext cx="1771560" cy="16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85800" y="838080"/>
            <a:ext cx="1295280" cy="175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2057400" y="1066680"/>
            <a:ext cx="1905120" cy="1771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09680" y="2895480"/>
            <a:ext cx="17528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ner Core SSTs (Ci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7543800" y="838080"/>
            <a:ext cx="3429000" cy="1854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4038480" y="838080"/>
            <a:ext cx="1752840" cy="17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0" y="4038480"/>
            <a:ext cx="1523880" cy="2133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6276960"/>
            <a:ext cx="17524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ppler Winds (Gam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5638680" y="838080"/>
            <a:ext cx="1752840" cy="1766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8120" y="1371600"/>
            <a:ext cx="213336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vanced Objective Dvorak Technique (Kossin/Vel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438280"/>
            <a:ext cx="23623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urricane-Weather Research Forecasting Model (Tuley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334120"/>
            <a:ext cx="20574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ed Observations (Majumdar/Aber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2384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2nd Round Projects - Pe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2280" y="838080"/>
            <a:ext cx="3263400" cy="2742840"/>
            <a:chOff x="152280" y="838080"/>
            <a:chExt cx="3263400" cy="2742840"/>
          </a:xfrm>
        </p:grpSpPr>
        <p:grpSp>
          <p:nvGrpSpPr>
            <p:cNvPr id="89" name=""/>
            <p:cNvGrpSpPr/>
            <p:nvPr/>
          </p:nvGrpSpPr>
          <p:grpSpPr>
            <a:xfrm>
              <a:off x="152280" y="838080"/>
              <a:ext cx="3263400" cy="2742840"/>
              <a:chOff x="152280" y="838080"/>
              <a:chExt cx="3263400" cy="274284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152280" y="873360"/>
                <a:ext cx="2923920" cy="2707560"/>
                <a:chOff x="152280" y="873360"/>
                <a:chExt cx="2923920" cy="270756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152280" y="909000"/>
                  <a:ext cx="2923920" cy="2671920"/>
                  <a:chOff x="152280" y="909000"/>
                  <a:chExt cx="2923920" cy="2671920"/>
                </a:xfrm>
              </p:grpSpPr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09000"/>
                    <a:ext cx="292392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" name=""/>
                  <p:cNvSpPr/>
                  <p:nvPr/>
                </p:nvSpPr>
                <p:spPr>
                  <a:xfrm>
                    <a:off x="187200" y="909000"/>
                    <a:ext cx="1401120" cy="1130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rPr>
                      <a:t>Hurricane Isabe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6 Sept 200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0:15UTC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"/>
                <p:cNvSpPr/>
                <p:nvPr/>
              </p:nvSpPr>
              <p:spPr>
                <a:xfrm>
                  <a:off x="617400" y="2298240"/>
                  <a:ext cx="676800" cy="10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140200" y="873360"/>
                  <a:ext cx="676800" cy="10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098080" y="2298240"/>
                  <a:ext cx="676440" cy="10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1525320" y="838080"/>
                <a:ext cx="1829520" cy="398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Spiral Analysi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56560" y="2228760"/>
                <a:ext cx="1959120" cy="398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Combo Analysi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9280" y="2228760"/>
                <a:ext cx="934920" cy="580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Times New Roman"/>
                  </a:rPr>
                  <a:t>Ring Analysi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152280" y="1051560"/>
              <a:ext cx="1480320" cy="74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15000" y="990720"/>
            <a:ext cx="3316320" cy="2624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28800" y="5715000"/>
            <a:ext cx="144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rcRect l="5480" t="4738" r="8677" b="0"/>
          <a:stretch/>
        </p:blipFill>
        <p:spPr>
          <a:xfrm>
            <a:off x="4267080" y="4770360"/>
            <a:ext cx="2438640" cy="2087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200400" y="3886200"/>
            <a:ext cx="2514600" cy="1405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ajor Activities 2006-2007 :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iew, fund, and testing of 15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round (FY05-06) year two project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7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year funding proposal review (Ju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year projects began (April and Ju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quested $1.265M, $1.15M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l-time testing and evaluation during 2006 hurricane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71720" y="112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81080"/>
            <a:ext cx="91440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JHT Third Round (FY05-06) Project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ynamical model upgrades, observational, and assimilatio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1066680"/>
          <a:ext cx="8305920" cy="5823000"/>
        </p:xfrm>
        <a:graphic>
          <a:graphicData uri="http://schemas.openxmlformats.org/drawingml/2006/table">
            <a:tbl>
              <a:tblPr/>
              <a:tblGrid>
                <a:gridCol w="5562720"/>
                <a:gridCol w="1066680"/>
                <a:gridCol w="167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 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HC P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 Model Transition to Operations at GFDL/NO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, R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 Model Transition to Operations at GFDL/NO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le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g Coefficient and Wind Speed Dependence in T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namic Initialization to Improve TC Intensity and Structure Foreca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al SFMR-NAWIPS Airborne Processing and Data Distribution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swell, Black, Ch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, Mainelli, Sisko, Lau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ping of Topographic Effects on Maximum Sustained Surface Wind Speeds in Landfalling Hurrica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milating Moisture Information from GPS Dropwindsondes into the NOAA Global Forecast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, Bla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SR-88D-derived Diagnosis of Tropical Cyclone Intensity Changes Near Land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e, Hara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McAd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JHT Third Round (FY05-06) Projects </a:t>
            </a:r>
            <a:br>
              <a:rPr sz="36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, structure, and track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1066680"/>
          <a:ext cx="8305920" cy="4756320"/>
        </p:xfrm>
        <a:graphic>
          <a:graphicData uri="http://schemas.openxmlformats.org/drawingml/2006/table">
            <a:tbl>
              <a:tblPr/>
              <a:tblGrid>
                <a:gridCol w="5410440"/>
                <a:gridCol w="1218960"/>
                <a:gridCol w="167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 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HC P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Statistical Intensity Forecast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ff, DeMaria, Ka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, Si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 of SHIPS Using Passive Microwave Imager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c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Si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ern Pacific Ocean Heat Content Estimates for SHIPS Foreca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y, De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, Main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inued Development of Tropical Cyclone Wind Probability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ff, De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imating Tropical Cyclone Wind Radii Utilizing an Empirical Inland Wind Decay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iction of Consensus TC Track Forecast Error and Correctors to Improve Consensus TC Track Foreca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er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and Implementation of NHC/JHT Products in AT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p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289440" y="6056280"/>
            <a:ext cx="7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ajor activities 2006-2007 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ation for the 4th Rou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FY07-08) 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9172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nouncement of Federal Funding Opportunity (June 16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3 Letters of Intent received (July 3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 encouraged to submit a full proposal (S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8 Full proposals reviewed (Dec. 2006-Feb.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C &amp; JHT Directors recommend for funding (Late Feb.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ound Projects begin (spring 2007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7680" y="624852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7-8 months for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7:13:50Z</dcterms:created>
  <dc:creator> </dc:creator>
  <dc:description/>
  <dc:language>en-US</dc:language>
  <cp:lastModifiedBy>Administrator</cp:lastModifiedBy>
  <dcterms:modified xsi:type="dcterms:W3CDTF">2007-03-07T17:50:45Z</dcterms:modified>
  <cp:revision>95</cp:revision>
  <dc:subject/>
  <dc:title>Funding for FY06 Projects</dc:title>
</cp:coreProperties>
</file>