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409-4C95-452B-924B-EE937F41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E28-3B2B-4862-A63F-16EA0DF5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FDB-9252-4157-8FBF-C6571AFF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8FC-E9F1-4E65-BBC3-0A31A13A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E9A-9B40-478C-8EE4-D960CB66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3FB-F58D-4567-87EA-7B166AD3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B8D-F71E-490B-AF27-12E6E055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D6C-E463-4564-8769-D2B7BC2F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8FE-DAC7-4E69-AA09-724CB6F5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7EF-034A-4309-8F14-24F0B94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A33-24E0-4D40-8D71-A4197D3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B1E-1E6E-495A-B5E3-276362A9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5816-77D2-4CC3-8407-49A84D749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19440" y="20304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607000"/>
            <a:ext cx="9144000" cy="1251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oint Hurricane Testbed (JHT) 2006 IHC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106200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91440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W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401652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. Jiann-Gwo Ji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Direct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NHC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 March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FD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5181480" cy="400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5257800" cy="418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7467480" cy="2352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48280" y="1752480"/>
            <a:ext cx="4995720" cy="5105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SU Intensity/Size Est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-763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imental Cumulative Wind Speed Probabilit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roduct will be operational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629240"/>
            <a:ext cx="9144000" cy="184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53352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d each forecast cycle for all active tropical cyclones in the Atlantic, eastern/central Pacific, and western Pacific ba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d on 2-D grids with 0.5-degree lat/lon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probabilities of the surface wind speed equal to or exceeding 34, 50, and 64 kt over specified time intervals (0-120 hours in 12-hour interv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interval or cumulative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ded, graphical, and text products can be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jor Activities for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Present final reports on eight 2</a:t>
            </a:r>
            <a:r>
              <a:rPr b="1" lang="en-US" sz="2400" spc="-1" strike="noStrike" baseline="30000">
                <a:solidFill>
                  <a:srgbClr val="bbe0e3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round non-EMC related projects to TPC Director (mid-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Rounds 3 PI presentations at the 60</a:t>
            </a:r>
            <a:r>
              <a:rPr b="1" lang="en-US" sz="2400" spc="-1" strike="noStrike" baseline="30000">
                <a:solidFill>
                  <a:srgbClr val="bbe0e3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IHC in Mobile, AL  (March 20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Decisions for implementation of eight 2</a:t>
            </a:r>
            <a:r>
              <a:rPr b="1" lang="en-US" sz="2400" spc="-1" strike="noStrike" baseline="30000">
                <a:solidFill>
                  <a:srgbClr val="bbe0e3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round   projects by TPC Director (March 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Decisions on implementation of four 2</a:t>
            </a:r>
            <a:r>
              <a:rPr b="1" lang="en-US" sz="2400" spc="-1" strike="noStrike" baseline="30000">
                <a:solidFill>
                  <a:srgbClr val="bbe0e3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round  model-related projects by EMC (Apr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year funding proposals for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ound projects due for SC review (April and Jul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Requested $1.265M, $1.15M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 time test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ajor Activities for 2006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Preparing for the next round of fu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se Announcement of Opportunity (AO) for  round 4 (FY07-08) projects. Send to DOC legal counsel for review in early Apr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nd 4 AO released (June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-application for round 4 proposals due Jul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proposals due October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 final scores from the SC (January 8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JHT Directors’ decision on which proposals to recommend for funding (January 29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ss Elsberry retired from the JHT Steering Committee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ff Hawkins (NRL) elected to the 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nk Marks retired from the 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 Landsea retired from the JHT adm. Assist. position (H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rly Murillo replaces Chris Landsea as the JHT adm. Assist. (H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 Landsea elected to the JHT SC (H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ch Knabb retired from the JHT adm. assist. position (T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 Landsea joined the TPC and became the JHT adm. Assist. (T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Gamache elected to the SC (H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685800"/>
            <a:ext cx="8382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nhc.noaa.gov/jht/index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-76320"/>
            <a:ext cx="8915400" cy="1090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600" y="762120"/>
            <a:ext cx="8991720" cy="4952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administrative as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son Krautkramer, JHT meteorologist/progr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principal investigators and other funded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d Seguin and John Gaynor (O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NHC  management and adm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EMC forecaster and technical points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TSB IT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5256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pplemental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us of Second Round Projects (FY03-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us of Third Round Projects (FY05-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or JHT Activitie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for JHT Project Report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the TPC Dir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PI final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aff members’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Point of Contact (POC)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IT Facilitator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transfer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ility and suppor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s of costs to implement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from TPC Technical Support Branch C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8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JHT Proposal Review Criter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nden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447920"/>
            <a:ext cx="7924680" cy="4267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levance to program goals (40 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arch maturity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y-to-payoff factors (25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gency use (5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echnical merit (40 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-to-payoff factors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ing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usage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compatibility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Overall qualification of applicants (10 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oject costs (10 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724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Review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91720" cy="3581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applications (Letters of Intent) reviewed in Aug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preapplications revie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 recommended to submit a full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proposals reviewed during Nov 2004 – Ja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proposals revie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als independently reviewed and scored by 7 JHT Steering Committee members based upon review criteria listed in the AF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80880" y="1260360"/>
          <a:ext cx="8382240" cy="4849920"/>
        </p:xfrm>
        <a:graphic>
          <a:graphicData uri="http://schemas.openxmlformats.org/drawingml/2006/table">
            <a:tbl>
              <a:tblPr/>
              <a:tblGrid>
                <a:gridCol w="6296040"/>
                <a:gridCol w="20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s of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 algorith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ty forecasting algorith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intensity esti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gen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80880" y="158760"/>
            <a:ext cx="876312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Second Round (FY03-04)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 Focus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econd Round (FY03-04) Project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ynamical model upgrades, obs/assimil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143000"/>
          <a:ext cx="8763120" cy="5640480"/>
        </p:xfrm>
        <a:graphic>
          <a:graphicData uri="http://schemas.openxmlformats.org/drawingml/2006/table">
            <a:tbl>
              <a:tblPr/>
              <a:tblGrid>
                <a:gridCol w="4191120"/>
                <a:gridCol w="1752480"/>
                <a:gridCol w="198108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grades to the operational GFDL hurricane prediction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der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FD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ing the GFDL/URI coupled hurricane-ocean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s to operations at NCEP/E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C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 of upper ocean mixing parameteriz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cob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M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lliwell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e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-time dissemination of hurricane wind fields determined from airborne dopp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m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McAdie, B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C: sev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ing strategies to improve hurricane track forec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umdar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M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h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C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econd Round (FY03-04) Project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yclogenesis and track forecast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143000"/>
          <a:ext cx="8763120" cy="5487840"/>
        </p:xfrm>
        <a:graphic>
          <a:graphicData uri="http://schemas.openxmlformats.org/drawingml/2006/table">
            <a:tbl>
              <a:tblPr/>
              <a:tblGrid>
                <a:gridCol w="4191120"/>
                <a:gridCol w="1752480"/>
                <a:gridCol w="198108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 and automated assessment of operational global forecast model predictions of tropical cyclone formation and lif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r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updated baseline for track forecast skill through five days for the Atlantic and Northeastern and Northwestern Pacific bas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ed and implemen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fying tropical cyclone track forecast uncertainty and improving extended-range tropical cyclone track forecasts using an ensemble of dynamical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rss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R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ed and implemen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ition of revised dynamical model track prediction evaluation expert system (DYM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he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be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ccep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econd Round (FY03-04) Project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nsity and rainfal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042920"/>
          <a:ext cx="8763120" cy="5891400"/>
        </p:xfrm>
        <a:graphic>
          <a:graphicData uri="http://schemas.openxmlformats.org/drawingml/2006/table">
            <a:tbl>
              <a:tblPr/>
              <a:tblGrid>
                <a:gridCol w="4191120"/>
                <a:gridCol w="1752480"/>
                <a:gridCol w="198108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ing the validation and prediction of tropical cyclone rain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C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ok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C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le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of the Advanced Objective Dvorak Technique (AODT) and Tropical Cyclone Intensity Estimation (TIE) algorithms at T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si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W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lde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W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Rhome, Mainelli, Cobb, Br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in Deterministic and Probabilistic Tropical Cyclone Surface Wind Predi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ria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ESD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of a rapid intensification index for the eastern Pacific ba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ing an inner-core SST cooling predictor for use in 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one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tema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Berg, Sisko, B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81080"/>
            <a:ext cx="82296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HT Third Round Project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ynamical model upgrades, observational, and assimilatio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143000"/>
          <a:ext cx="8305560" cy="5823000"/>
        </p:xfrm>
        <a:graphic>
          <a:graphicData uri="http://schemas.openxmlformats.org/drawingml/2006/table">
            <a:tbl>
              <a:tblPr/>
              <a:tblGrid>
                <a:gridCol w="5562360"/>
                <a:gridCol w="1067040"/>
                <a:gridCol w="1676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R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le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g Coefficient and Wind Speed Dependence in T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namic Initialization to Improve TC Intensity and Structure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SFMR-NAWIPS Airborne Processing and Data Distribution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swell, Black, Ch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Mainelli, Sisko, L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ping of Topographic Effects on Maximum Sustained Surface Wind Speeds in Landfalling Hurrica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milating Moisture Information from GPS Dropwindsondes into the NOAA Global Forecast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SR-88D-derived Diagnosis of Tropical Cyclone Intensity Changes Near Land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, Hara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McA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133200" y="1752480"/>
            <a:ext cx="628920" cy="380880"/>
            <a:chOff x="133200" y="1752480"/>
            <a:chExt cx="628920" cy="380880"/>
          </a:xfrm>
        </p:grpSpPr>
        <p:sp>
          <p:nvSpPr>
            <p:cNvPr id="111" name=""/>
            <p:cNvSpPr/>
            <p:nvPr/>
          </p:nvSpPr>
          <p:spPr>
            <a:xfrm>
              <a:off x="152280" y="17524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3200" y="1762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38240" y="5538960"/>
            <a:ext cx="628200" cy="380880"/>
            <a:chOff x="138240" y="5538960"/>
            <a:chExt cx="628200" cy="380880"/>
          </a:xfrm>
        </p:grpSpPr>
        <p:sp>
          <p:nvSpPr>
            <p:cNvPr id="114" name=""/>
            <p:cNvSpPr/>
            <p:nvPr/>
          </p:nvSpPr>
          <p:spPr>
            <a:xfrm>
              <a:off x="156960" y="553896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8240" y="55486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8520" y="2743200"/>
            <a:ext cx="628200" cy="380880"/>
            <a:chOff x="128520" y="2743200"/>
            <a:chExt cx="628200" cy="380880"/>
          </a:xfrm>
        </p:grpSpPr>
        <p:sp>
          <p:nvSpPr>
            <p:cNvPr id="117" name=""/>
            <p:cNvSpPr/>
            <p:nvPr/>
          </p:nvSpPr>
          <p:spPr>
            <a:xfrm>
              <a:off x="147240" y="274320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8520" y="27529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3840" y="3352680"/>
            <a:ext cx="628200" cy="380880"/>
            <a:chOff x="123840" y="3352680"/>
            <a:chExt cx="628200" cy="380880"/>
          </a:xfrm>
        </p:grpSpPr>
        <p:sp>
          <p:nvSpPr>
            <p:cNvPr id="120" name=""/>
            <p:cNvSpPr/>
            <p:nvPr/>
          </p:nvSpPr>
          <p:spPr>
            <a:xfrm>
              <a:off x="142560" y="335268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3840" y="33624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HT Third Round Projects 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066680"/>
          <a:ext cx="8305560" cy="4756320"/>
        </p:xfrm>
        <a:graphic>
          <a:graphicData uri="http://schemas.openxmlformats.org/drawingml/2006/table">
            <a:tbl>
              <a:tblPr/>
              <a:tblGrid>
                <a:gridCol w="5410080"/>
                <a:gridCol w="1219320"/>
                <a:gridCol w="1676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Statistical Intensity Forecast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, Ka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 of SHIPS Using Passive Microwave Imager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n Pacific Ocean Heat Content Estimates for SHIPS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, De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Main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ed Development of Tropical Cyclone Wind Probability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”, Gr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ing Tropical Cyclone Wind Radii Utilizing an Empirical Inland Wind Decay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Gr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on of Consensus TC Track Forecast Error and Correctors to Improve Consensus TC Track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r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Gr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and Implementation of NHC/JHT Products in AT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”, Sisko, Gr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152280" y="5334120"/>
            <a:ext cx="628920" cy="380880"/>
            <a:chOff x="152280" y="5334120"/>
            <a:chExt cx="628920" cy="380880"/>
          </a:xfrm>
        </p:grpSpPr>
        <p:sp>
          <p:nvSpPr>
            <p:cNvPr id="125" name=""/>
            <p:cNvSpPr/>
            <p:nvPr/>
          </p:nvSpPr>
          <p:spPr>
            <a:xfrm>
              <a:off x="171360" y="533412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53438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2280" y="4800600"/>
            <a:ext cx="628920" cy="380880"/>
            <a:chOff x="152280" y="4800600"/>
            <a:chExt cx="628920" cy="380880"/>
          </a:xfrm>
        </p:grpSpPr>
        <p:sp>
          <p:nvSpPr>
            <p:cNvPr id="128" name=""/>
            <p:cNvSpPr/>
            <p:nvPr/>
          </p:nvSpPr>
          <p:spPr>
            <a:xfrm>
              <a:off x="171360" y="480060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48103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2280" y="4267080"/>
            <a:ext cx="628920" cy="380880"/>
            <a:chOff x="152280" y="4267080"/>
            <a:chExt cx="628920" cy="380880"/>
          </a:xfrm>
        </p:grpSpPr>
        <p:sp>
          <p:nvSpPr>
            <p:cNvPr id="131" name=""/>
            <p:cNvSpPr/>
            <p:nvPr/>
          </p:nvSpPr>
          <p:spPr>
            <a:xfrm>
              <a:off x="171360" y="4267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80" y="4276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95280"/>
            <a:ext cx="8991720" cy="248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projects were initially funded late in FY03:  3 one-year and 12 two-yea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one-year projects concluded (Aug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000" indent="-1440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sions on operational implementation by TPC Director in Dec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000" indent="-1440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projects accepted for operational implementation and were implemented before 2005 Hurricane Season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-pres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 two-year projects completed in Augus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 stage of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s on operational implementation for 8 projects in late March 2006 by TPC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s on operational implementation for 4 model related projects in April 2006 by EMC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520" y="68580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tatus of 15 Second Round Projec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FY03-04 Fu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752480"/>
            <a:ext cx="8991720" cy="1981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8915400" cy="5105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nouncement of Opportunity (30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proposals completed and recommendations made in late Januar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available funding: ~$1.2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s from federal labs received funding in late March (OAR) and June (DOD)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federal PIs received funding between late June and August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and project point of contacts coordinated with PIs to develop tim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 and evaluation during 2005 hurricane sea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tatus of 15 Third Round Projects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Y05-06 Fu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3840" y="1905120"/>
          <a:ext cx="8886960" cy="4038480"/>
        </p:xfrm>
        <a:graphic>
          <a:graphicData uri="http://schemas.openxmlformats.org/drawingml/2006/table">
            <a:tbl>
              <a:tblPr/>
              <a:tblGrid>
                <a:gridCol w="660096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ty forecast 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ne structure/wind distrib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perational enviro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34308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ird Round Project Focus Are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52280"/>
            <a:ext cx="86868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Arial"/>
              </a:rPr>
              <a:t>rd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Round (FY05) Funding Distribution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$1.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54280" y="1738440"/>
          <a:ext cx="6170400" cy="48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738440"/>
                    <a:ext cx="617040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0" y="3809880"/>
            <a:ext cx="1676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OAA 3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660680"/>
            <a:ext cx="3352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ivate Companies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4419720"/>
            <a:ext cx="1676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tate and Private Universities 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193840"/>
            <a:ext cx="1981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avy (NPS, NRL) 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projects, one was not continued after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projects continued i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 of the seven accepted, 6.5 wer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one-year projects, 2 implemented, one not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two-year projects being evaluated (some already implemen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relativ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very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mplemented by the PIs/other Cen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mplemented by TPC staff/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mplemented by JHT staff/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8915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ical Cyclone Rainfall Climatology and Persis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-CLIPER)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92240" y="1317600"/>
            <a:ext cx="7229520" cy="5076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977760"/>
            <a:ext cx="8915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real-time output in NAWIPS during Hurricane Lili 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7:13:50Z</dcterms:created>
  <dc:creator> </dc:creator>
  <dc:description/>
  <dc:language>en-US</dc:language>
  <cp:lastModifiedBy>Jiann-Gwo Jiing</cp:lastModifiedBy>
  <dcterms:modified xsi:type="dcterms:W3CDTF">2006-03-22T12:49:24Z</dcterms:modified>
  <cp:revision>36</cp:revision>
  <dc:subject/>
  <dc:title>Funding for FY06 Projects</dc:title>
</cp:coreProperties>
</file>