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993-8D93-4C96-B151-5160815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45A-3C65-41EA-A7D5-45E2346C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292-2DA1-4589-8967-1581C0A7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CC1-44CC-405E-A7BE-17999F88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B63-68D6-4AD9-8408-CA36FF92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CF3-A68D-4A18-8786-B4D972B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5A5-7250-4007-9926-1D486E7D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B01-1FBE-4F60-B474-1294F33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9A5-3D34-471A-A738-23F26FB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580-26AC-4964-AF76-F475E44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35B-A958-4805-9940-B4A5322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6A2-04C5-4BDC-AB85-E3F27DE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D141-BDBD-42DA-AF3E-EB4935F3F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9440" y="20304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607000"/>
            <a:ext cx="9144000" cy="12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 Hurricane Testbed (JHT) 2006 IHC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10620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91440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W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4016520"/>
            <a:ext cx="8610480" cy="146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. Jiann-Gwo Jiing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HT Direct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NHC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March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F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5181480" cy="400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5257800" cy="418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7467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48280" y="1752480"/>
            <a:ext cx="4995720" cy="5105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SU Intensity/Siz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7632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imental Cumulative Wind Speed Probabilit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roduct will be operational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629240"/>
            <a:ext cx="9144000" cy="184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3352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d each forecast cycle for all active tropical cyclones in the Atlantic, eastern/central Pacific, and western Pacific ba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d on 2-D grids with 0.5-degree lat/lon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probabilities of the surface wind speed equal to or exceeding 34, 50, and 64 kt over specified time intervals (0-120 hours in 12-hour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interval or cumulative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ded, graphical, and text products can b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jor Activities for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resent final reports on eight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non-EMC related projects to TPC Director (mid-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Rounds 3 PI presentations at the 60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IHC in Mobile, AL  (March 20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Decisions for implementation of eight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  projects by TPC Director (March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Decisions on implementation of four 2</a:t>
            </a:r>
            <a:r>
              <a:rPr b="1" lang="en-US" sz="2400" spc="-1" strike="noStrike" baseline="30000">
                <a:solidFill>
                  <a:srgbClr val="bbe0e3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round  model-related projects by EMC (Apr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year funding proposals for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 projects due for SC review (April and Jul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equested $1.265M, $1.15M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 time test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ajor Activities for 2006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reparing for the next round of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e Announcement of Opportunity (AO) for  round 4 (FY07-08) projects. Send to DOC legal counsel for review in early Apr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nd 4 AO released (June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-application for round 4 proposals due Jul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due Octo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 final scores from the SC (January 8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JHT Directors’ decision on which proposals to recommend for funding (January 29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ss Elsberry retired from the JHT Steering Committee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ff Hawkins (NRL) elected to the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k Marks retired from the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retired from the JHT adm. Assist. position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rly Murillo replaces Chris Landsea as the JHT adm. Assist.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elected to the JHT SC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ch Knabb retired from the JHT adm. assist. position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 Landsea joined the TPC and became the JHT adm. Assist. (T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Gamache elected to the SC (H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85800"/>
            <a:ext cx="8382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nhc.noaa.gov/jht/index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056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-76320"/>
            <a:ext cx="89154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600" y="762120"/>
            <a:ext cx="8991720" cy="4952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dministrative as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son Krautkramer, JHT meteorologist/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principal investigators and other funded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d Seguin and John Gaynor (O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NHC  management and adm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and EMC forecaster and technical points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/TSB I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52560"/>
            <a:ext cx="8915400" cy="1090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pplemental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Second Round Projects (FY03-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us of Third Round Projects (FY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JHT Activitie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put for JHT Project Repor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the TPC Dir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PI final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staff members’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PC Point of Contact (POC)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IT Facilitator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transfer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ility and suppor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of costs to implement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from TPC Technical Support Branch 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8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JHT Proposal Review Criteri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nden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47920"/>
            <a:ext cx="7924680" cy="426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levance to program goals (4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aturity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y-to-payoff factors (25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gency use (5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echnical merit (4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-to-payoff factors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usage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compatibility (10 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Overall qualification of applicants (1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oject costs (10 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724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Y05 Review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91720" cy="3581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applications (Letters of Intent) reviewed in Aug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preapplications re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recommended to submit a full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proposals reviewed during Nov 2004 – Ja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proposals re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independently reviewed and scored by 7 JHT Steering Committee members based upon review criteria listed in the AF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80880" y="1260360"/>
          <a:ext cx="8382240" cy="4849920"/>
        </p:xfrm>
        <a:graphic>
          <a:graphicData uri="http://schemas.openxmlformats.org/drawingml/2006/table">
            <a:tbl>
              <a:tblPr/>
              <a:tblGrid>
                <a:gridCol w="6296040"/>
                <a:gridCol w="20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s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 algorith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ing algorith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intensity esti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gen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80880" y="158760"/>
            <a:ext cx="876312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HT Second Round (FY03-04)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Focus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ynamical model upgrades, obs/assimil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143000"/>
          <a:ext cx="8763120" cy="564048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grades to the operational GFDL hurricane predic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FD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GFDL/URI coupled hurricane-ocean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s to operations at NCEP/E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 of upper ocean mixing parameter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cob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lliwell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-time dissemination of hurricane wind fields determined from airborne dopp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m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McAdie, 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C: sev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ing strategies to improve hurricane track forec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umdar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M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h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yclogenesis and track forecas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143000"/>
          <a:ext cx="8763120" cy="548784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 and automated assessment of operational global forecast model predictions of tropical cyclone formation and lif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r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updated baseline for track forecast skill through five days for the Atlantic and Northeastern and Northwestern Pacific bas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ed and implemen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fying tropical cyclone track forecast uncertainty and improving extended-range tropical cyclone track forecasts using an ensemble of dynam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R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ed and implemen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ion of revised dynamical model track prediction evaluation expert system (DYM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he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ccep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econd Round (FY03-04) Project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nsity and rainfall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042920"/>
          <a:ext cx="8763120" cy="5891400"/>
        </p:xfrm>
        <a:graphic>
          <a:graphicData uri="http://schemas.openxmlformats.org/drawingml/2006/table">
            <a:tbl>
              <a:tblPr/>
              <a:tblGrid>
                <a:gridCol w="4191120"/>
                <a:gridCol w="1752480"/>
                <a:gridCol w="198108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he validation and prediction of tropical cyclone rain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ok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C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l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the Advanced Objective Dvorak Technique (AODT) and Tropical Cyclone Intensity Estimation (TIE) algorithms at T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si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W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lde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W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Rhome, Mainelli, Cobb, 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in Deterministic and Probabilistic Tropical Cyclone Surface Wind Predi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. 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ria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ESD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of a rapid intensification index for the eastern Pacific ba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ing an inner-core SST cooling predictor for use in 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one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tema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Berg, Sisko, B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81080"/>
            <a:ext cx="82296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HT Third Round Projects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ynamical model upgrades, observational, and assimilatio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143000"/>
          <a:ext cx="8305560" cy="5823000"/>
        </p:xfrm>
        <a:graphic>
          <a:graphicData uri="http://schemas.openxmlformats.org/drawingml/2006/table">
            <a:tbl>
              <a:tblPr/>
              <a:tblGrid>
                <a:gridCol w="5562360"/>
                <a:gridCol w="1067040"/>
                <a:gridCol w="167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, Rh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 Model Transition to Operations at GFDL/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le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g Coefficient and Wind Speed Dependence in T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namic Initialization to Improve TC Intensity and Structure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SFMR-NAWIPS Airborne Processing and Data Distribution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swell, Black,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Mainelli, Sisko, La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ping of Topographic Effects on Maximum Sustained Surface Wind Speeds in Landfalling Hurric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ng Moisture Information from GPS Dropwindsondes into the NOAA Global Forecast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klin, Bl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SR-88D-derived Diagnosis of Tropical Cyclone Intensity Changes Near Land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, Hara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Mc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33200" y="1752480"/>
            <a:ext cx="628920" cy="380880"/>
            <a:chOff x="133200" y="1752480"/>
            <a:chExt cx="628920" cy="380880"/>
          </a:xfrm>
        </p:grpSpPr>
        <p:sp>
          <p:nvSpPr>
            <p:cNvPr id="111" name=""/>
            <p:cNvSpPr/>
            <p:nvPr/>
          </p:nvSpPr>
          <p:spPr>
            <a:xfrm>
              <a:off x="152280" y="17524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3200" y="1762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38240" y="5538960"/>
            <a:ext cx="628200" cy="380880"/>
            <a:chOff x="138240" y="5538960"/>
            <a:chExt cx="628200" cy="380880"/>
          </a:xfrm>
        </p:grpSpPr>
        <p:sp>
          <p:nvSpPr>
            <p:cNvPr id="114" name=""/>
            <p:cNvSpPr/>
            <p:nvPr/>
          </p:nvSpPr>
          <p:spPr>
            <a:xfrm>
              <a:off x="156960" y="553896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8240" y="55486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8520" y="2743200"/>
            <a:ext cx="628200" cy="380880"/>
            <a:chOff x="128520" y="2743200"/>
            <a:chExt cx="628200" cy="380880"/>
          </a:xfrm>
        </p:grpSpPr>
        <p:sp>
          <p:nvSpPr>
            <p:cNvPr id="117" name=""/>
            <p:cNvSpPr/>
            <p:nvPr/>
          </p:nvSpPr>
          <p:spPr>
            <a:xfrm>
              <a:off x="147240" y="27432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8520" y="2752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3840" y="3352680"/>
            <a:ext cx="628200" cy="380880"/>
            <a:chOff x="123840" y="3352680"/>
            <a:chExt cx="628200" cy="380880"/>
          </a:xfrm>
        </p:grpSpPr>
        <p:sp>
          <p:nvSpPr>
            <p:cNvPr id="120" name=""/>
            <p:cNvSpPr/>
            <p:nvPr/>
          </p:nvSpPr>
          <p:spPr>
            <a:xfrm>
              <a:off x="142560" y="33526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3840" y="33624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HT Third Round Projects </a:t>
            </a:r>
            <a:br>
              <a:rPr sz="4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, structure, and track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066680"/>
          <a:ext cx="8305560" cy="4756320"/>
        </p:xfrm>
        <a:graphic>
          <a:graphicData uri="http://schemas.openxmlformats.org/drawingml/2006/table">
            <a:tbl>
              <a:tblPr/>
              <a:tblGrid>
                <a:gridCol w="5410080"/>
                <a:gridCol w="1219320"/>
                <a:gridCol w="1676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posal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PC P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Statistical Intensity Forecast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, 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 of SHIPS Using Passive Microwave Image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S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Pacific Ocean Heat Content Estimates for SHIPS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y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la, Main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d Development of Tropical Cyclone Wind Probability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aff, De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”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ng Tropical Cyclone Wind Radii Utilizing an Empirical Inland Wind Decay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wart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on of Consensus TC Track Forecast Error and Correctors to Improve Consensus TC Track Forec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er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n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and Implementation of NHC/JHT Products in AT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”, Sisko, Gr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152280" y="5334120"/>
            <a:ext cx="628920" cy="380880"/>
            <a:chOff x="152280" y="5334120"/>
            <a:chExt cx="628920" cy="380880"/>
          </a:xfrm>
        </p:grpSpPr>
        <p:sp>
          <p:nvSpPr>
            <p:cNvPr id="125" name=""/>
            <p:cNvSpPr/>
            <p:nvPr/>
          </p:nvSpPr>
          <p:spPr>
            <a:xfrm>
              <a:off x="171360" y="533412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5343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2280" y="4800600"/>
            <a:ext cx="628920" cy="380880"/>
            <a:chOff x="152280" y="4800600"/>
            <a:chExt cx="628920" cy="380880"/>
          </a:xfrm>
        </p:grpSpPr>
        <p:sp>
          <p:nvSpPr>
            <p:cNvPr id="128" name=""/>
            <p:cNvSpPr/>
            <p:nvPr/>
          </p:nvSpPr>
          <p:spPr>
            <a:xfrm>
              <a:off x="171360" y="48006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4810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280" y="4267080"/>
            <a:ext cx="628920" cy="380880"/>
            <a:chOff x="152280" y="4267080"/>
            <a:chExt cx="628920" cy="380880"/>
          </a:xfrm>
        </p:grpSpPr>
        <p:sp>
          <p:nvSpPr>
            <p:cNvPr id="131" name=""/>
            <p:cNvSpPr/>
            <p:nvPr/>
          </p:nvSpPr>
          <p:spPr>
            <a:xfrm>
              <a:off x="171360" y="4267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4276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95280"/>
            <a:ext cx="8991720" cy="248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projects were initially funded late in FY03:  3 one-year and 12 two-yea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ne-year projects concluded (Aug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sions on operational implementation by TPC Director in Dec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projects accepted for operational implementation and were implemented before 2005 Hurricane Season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-pres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two-year projects completed in Augus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stage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for 8 projects in late March 2006 by TPC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on operational implementation for 4 model related projects in April 2006 by EMC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68580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tatus of 15 Second Round Projec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Y03-04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752480"/>
            <a:ext cx="8991720" cy="19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915400" cy="5105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ouncement of Opportunity (30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proposals completed and recommendations made in late Januar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available funding: ~$1.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s from federal labs received funding in late March (OAR) and June (DOD)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federal PIs received funding between late June and August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HT and project point of contacts coordinated with PIs to develop tim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and evaluation during 2005 hurricane sea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atus of 15 Third Round Projects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Y05-06 F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840" y="1905120"/>
          <a:ext cx="8886960" cy="4038480"/>
        </p:xfrm>
        <a:graphic>
          <a:graphicData uri="http://schemas.openxmlformats.org/drawingml/2006/table">
            <a:tbl>
              <a:tblPr/>
              <a:tblGrid>
                <a:gridCol w="66009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imary Area of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ments to dynamical models (for track, intensity, and precipitation forecas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ty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bserved data, assimi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cyclone structure/wind dis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 forecast 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ments to operational enviro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34308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rd Round Project Focus Ar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5228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Arial"/>
              </a:rPr>
              <a:t>rd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Round (FY05) Funding Distribution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$1.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54280" y="1738440"/>
          <a:ext cx="6170400" cy="48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738440"/>
                    <a:ext cx="61704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0" y="380988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OAA 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660680"/>
            <a:ext cx="335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ivate Companies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4419720"/>
            <a:ext cx="167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tate and Private Universities 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193840"/>
            <a:ext cx="1981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avy (NPS, NRL) 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projects, one was not continued after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projects continued i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 of the seven accepted, 6.5 we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one-year projects, 2 implemented, one not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two-year projects being evaluated (some already implemen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relativ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very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the PIs/other Ce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TPC staff/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mplemented by JHT staff/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8915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ical Cyclone Rainfall Climatology and 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-CLIPER)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92240" y="1317600"/>
            <a:ext cx="7229520" cy="507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977760"/>
            <a:ext cx="8915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real-time output in NAWIPS during Hurricane Lili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3:50Z</dcterms:created>
  <dc:creator> </dc:creator>
  <dc:description/>
  <dc:language>en-US</dc:language>
  <cp:lastModifiedBy>Jiann-Gwo Jiing</cp:lastModifiedBy>
  <dcterms:modified xsi:type="dcterms:W3CDTF">2006-03-22T12:49:24Z</dcterms:modified>
  <cp:revision>36</cp:revision>
  <dc:subject/>
  <dc:title>Funding for FY06 Projects</dc:title>
</cp:coreProperties>
</file>