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ACF57-51D2-49E6-9C47-BC208B7E4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A4830-8145-4169-A158-67D2471B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5EBA3-9B03-4B2B-A9FF-79F24C078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AA405-36E3-456A-946E-1AB34731A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92BE4-5289-41F1-87BF-B716D216B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48E42-A1B0-4EF8-A09B-A1F22B265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F0240-B883-4E84-ADDA-B2E59A5CB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BDB37-B9D3-4B85-AC2A-B3ABF8BC9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BDCB1-06FB-4D77-9474-0AB4FD9F6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E36E-178B-4E36-A38F-455272A67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E63C-8D05-45CA-B8E1-F034A62C5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606B2-981F-43F4-B209-95A7CC53E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9FAD-3873-4404-9557-C0B8E698C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00200"/>
            <a:ext cx="7772400" cy="312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 Weather Research Program &amp; </a:t>
            </a:r>
            <a:br>
              <a:rPr sz="3200"/>
            </a:br>
            <a:r>
              <a:rPr b="0" i="1" lang="en-US" sz="3200" spc="-1" strike="noStrike">
                <a:solidFill>
                  <a:srgbClr val="000000"/>
                </a:solidFill>
                <a:latin typeface="Arial"/>
              </a:rPr>
              <a:t>the Joint Hurricane Testbed</a:t>
            </a:r>
            <a:br>
              <a:rPr sz="3200"/>
            </a:br>
            <a:br>
              <a:rPr sz="3200"/>
            </a:b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295280" y="373392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d R. Seguin</a:t>
            </a:r>
            <a:br>
              <a:rPr sz="2000"/>
            </a:br>
            <a:r>
              <a:rPr b="0" lang="en-US" sz="2000" spc="-1" strike="noStrike">
                <a:solidFill>
                  <a:srgbClr val="000000"/>
                </a:solidFill>
                <a:latin typeface="Arial"/>
              </a:rPr>
              <a:t>USWRP Interagency Program Office</a:t>
            </a:r>
            <a:br>
              <a:rPr sz="2000"/>
            </a:br>
            <a:br>
              <a:rPr sz="2000"/>
            </a:br>
            <a:r>
              <a:rPr b="0" lang="en-US" sz="2000" spc="-1" strike="noStrike">
                <a:solidFill>
                  <a:srgbClr val="000000"/>
                </a:solidFill>
                <a:latin typeface="Arial"/>
              </a:rPr>
              <a:t>Presented to the IHC</a:t>
            </a:r>
            <a:br>
              <a:rPr sz="1600"/>
            </a:br>
            <a:r>
              <a:rPr b="0" lang="en-US" sz="1400" spc="-1" strike="noStrike">
                <a:solidFill>
                  <a:srgbClr val="000000"/>
                </a:solidFill>
                <a:latin typeface="Arial"/>
              </a:rPr>
              <a:t>March 3, 2004</a:t>
            </a:r>
            <a:br>
              <a:rPr sz="1600"/>
            </a:br>
            <a:endParaRPr b="0" lang="en-US" sz="1400" spc="-1" strike="noStrike">
              <a:solidFill>
                <a:srgbClr val="000000"/>
              </a:solidFill>
              <a:latin typeface="Times New Roman"/>
            </a:endParaRPr>
          </a:p>
        </p:txBody>
      </p:sp>
      <p:graphicFrame>
        <p:nvGraphicFramePr>
          <p:cNvPr id="43" name=""/>
          <p:cNvGraphicFramePr/>
          <p:nvPr/>
        </p:nvGraphicFramePr>
        <p:xfrm>
          <a:off x="533520" y="533520"/>
          <a:ext cx="4419360" cy="647640"/>
        </p:xfrm>
        <a:graphic>
          <a:graphicData uri="http://schemas.openxmlformats.org/presentationml/2006/ole">
            <p:oleObj r:id="rId1" spid="">
              <p:embed/>
              <p:pic>
                <p:nvPicPr>
                  <p:cNvPr id="44" name="" descr=""/>
                  <p:cNvPicPr/>
                  <p:nvPr/>
                </p:nvPicPr>
                <p:blipFill>
                  <a:blip r:embed="rId2"/>
                  <a:stretch/>
                </p:blipFill>
                <p:spPr>
                  <a:xfrm>
                    <a:off x="533520" y="533520"/>
                    <a:ext cx="441936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4647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WRP</a:t>
            </a:r>
            <a:br>
              <a:rPr sz="3200"/>
            </a:br>
            <a:br>
              <a:rPr sz="3200"/>
            </a:br>
            <a:r>
              <a:rPr b="0" lang="en-US" sz="2800" spc="-1" strike="noStrike">
                <a:solidFill>
                  <a:srgbClr val="000000"/>
                </a:solidFill>
                <a:latin typeface="Arial"/>
              </a:rPr>
              <a:t>Established in 1994 by four agencies to facilitate the coordination and collaboration among members supporting weather-related research and to allow USWRP members to leverage sponsored research and development.</a:t>
            </a:r>
            <a:br>
              <a:rPr sz="2800"/>
            </a:b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graphicFrame>
        <p:nvGraphicFramePr>
          <p:cNvPr id="47" name=""/>
          <p:cNvGraphicFramePr/>
          <p:nvPr/>
        </p:nvGraphicFramePr>
        <p:xfrm>
          <a:off x="533520" y="533520"/>
          <a:ext cx="4419360" cy="647640"/>
        </p:xfrm>
        <a:graphic>
          <a:graphicData uri="http://schemas.openxmlformats.org/presentationml/2006/ole">
            <p:oleObj r:id="rId1" spid="">
              <p:embed/>
              <p:pic>
                <p:nvPicPr>
                  <p:cNvPr id="48" name="" descr=""/>
                  <p:cNvPicPr/>
                  <p:nvPr/>
                </p:nvPicPr>
                <p:blipFill>
                  <a:blip r:embed="rId2"/>
                  <a:stretch/>
                </p:blipFill>
                <p:spPr>
                  <a:xfrm>
                    <a:off x="533520" y="533520"/>
                    <a:ext cx="441936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00200" y="1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371600"/>
            <a:ext cx="7772400" cy="3200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HT Mission</a:t>
            </a:r>
            <a:br>
              <a:rPr sz="3200"/>
            </a:br>
            <a:br>
              <a:rPr sz="3200"/>
            </a:br>
            <a:r>
              <a:rPr b="0" lang="en-US" sz="2800" spc="-1" strike="noStrike">
                <a:solidFill>
                  <a:srgbClr val="000000"/>
                </a:solidFill>
                <a:latin typeface="Arial"/>
              </a:rPr>
              <a:t>To advance the transfer of new research and technology into operational hurricane prediction.</a:t>
            </a:r>
            <a:br>
              <a:rPr sz="2800"/>
            </a:br>
            <a:endParaRPr b="0" lang="en-US" sz="2800" spc="-1" strike="noStrike">
              <a:solidFill>
                <a:srgbClr val="000000"/>
              </a:solidFill>
              <a:latin typeface="Times New Roman"/>
            </a:endParaRPr>
          </a:p>
        </p:txBody>
      </p:sp>
      <p:sp>
        <p:nvSpPr>
          <p:cNvPr id="52" name="PlaceHolder 2"/>
          <p:cNvSpPr>
            <a:spLocks noGrp="1"/>
          </p:cNvSpPr>
          <p:nvPr>
            <p:ph/>
          </p:nvPr>
        </p:nvSpPr>
        <p:spPr>
          <a:xfrm>
            <a:off x="4495320" y="4495320"/>
            <a:ext cx="3962520" cy="213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HT Infrastructure</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ed by NOAA USWR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WG makes decisions in the context of the overall interagency USWRP priorit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O provides funding, coordination and grants suppor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C provides science guidance and proposal review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HT Director and Administrator, with technical assistance, provide day-to-day operations coordination and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and overall JHT support issue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in research component of NOAA transferred to operations.  Perhaps not a good permanent resource solution (detracts from flexibility in research funding).</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rtainty concerning overall coordination, funding decisions and grants support (basically the IPO functions) as NOAA USWRP moves from OAR to NWS in FY2005.  Details and logistics of this move need to be determined.</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ment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d and funded two, two-year JHT project cycles and completed on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a number of projects for operational implement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HT is being used as a model for emerging and future testb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WRP &amp; JHT Challenge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ing a fair competitive grants program open to a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a process to select viable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and maintaining an infrastructure to test and evaluate testbed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milating new technologies into current operatio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ing a pipeline of transition ready projects by supporting applied research</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Plan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refine the process of announcing and awarding transition research gra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an Announcement of Opportunity in June/July 2004 for grants beginning in 2005</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 transition model research results to the Development Testbed Ce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7:45:42Z</dcterms:created>
  <dc:creator>Ward Seguin</dc:creator>
  <dc:description/>
  <dc:language>en-US</dc:language>
  <cp:lastModifiedBy>Eileen Seguin</cp:lastModifiedBy>
  <dcterms:modified xsi:type="dcterms:W3CDTF">2004-02-27T02:37:47Z</dcterms:modified>
  <cp:revision>7</cp:revision>
  <dc:subject/>
  <dc:title>US Weather Research Program &amp;  the Joint Hurricane Testbed  Ward R. Seguin USWRP Interagency Program Office  Presented to the IHC March 3, 2004 </dc:title>
</cp:coreProperties>
</file>